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34C50-B7BA-4135-8668-41100B870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41BB4-F161-4210-989C-303F46CDA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B3910-3AD3-406B-8B53-7DF138F50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51C01-8DCB-480F-AD6E-360B9612A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E8D2F-D92E-4A36-9F1F-209140206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CDDA7-13B8-4A66-8276-6B540488E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D34E4-8F9E-47D5-A75B-089798925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EA711-43A2-494A-A0E5-43F496B18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BFEB5-C2FD-4F68-9B4E-ADE431C4C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2AEFA-D74E-42E0-9C82-7998D7F32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7DBBA-480F-45F5-8F25-A4BBBA463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36EF2-1D2F-4724-8539-C2CFED022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a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FABDD-4EF9-4458-BB86-B1D57E40DBAE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5B30B-7525-4E92-8A23-430FB88B6BD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052640"/>
            <a:ext cx="7772400" cy="3024000"/>
          </a:xfrm>
          <a:prstGeom prst="rect">
            <a:avLst/>
          </a:prstGeom>
          <a:solidFill>
            <a:srgbClr val="faf2d4"/>
          </a:solidFill>
          <a:ln w="9360">
            <a:solidFill>
              <a:srgbClr val="93540a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рмативно-правова компетентність бібліотекаря </a:t>
            </a:r>
            <a:br>
              <a:rPr sz="4800"/>
            </a:br>
            <a:r>
              <a:rPr b="1" lang="uk-UA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вої української школи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276360" y="4292640"/>
            <a:ext cx="536724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ahoma"/>
              </a:rPr>
              <a:t>Лекція-презентація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c00000"/>
                </a:solidFill>
                <a:latin typeface="Times New Roman"/>
                <a:ea typeface="Tahoma"/>
              </a:rPr>
              <a:t>Смирнової М.Є.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ahoma"/>
              </a:rPr>
              <a:t>завідувача кафедри соціально-гуманітарної освіти, кандидата педагогічних наук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  <a:ea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457200" y="404280"/>
            <a:ext cx="8229600" cy="5721480"/>
          </a:xfrm>
          <a:prstGeom prst="rect">
            <a:avLst/>
          </a:prstGeom>
          <a:solidFill>
            <a:srgbClr val="faf2d4"/>
          </a:solidFill>
          <a:ln w="9360">
            <a:solidFill>
              <a:srgbClr val="c00000"/>
            </a:solidFill>
            <a:miter/>
          </a:ln>
        </p:spPr>
        <p:txBody>
          <a:bodyPr anchor="t">
            <a:normAutofit/>
          </a:bodyPr>
          <a:p>
            <a:pPr marL="341280" indent="-341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алузева Концепція розвитку неперервної пед. освіти.doc</a:t>
            </a:r>
            <a:r>
              <a:rPr b="1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тверджен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каз Міністерства освіти і науки Україн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ід 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  серпня  2013 р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№ 117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90B48-FE66-4888-A29B-8E85EADA6A0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428760" y="1642680"/>
            <a:ext cx="8229600" cy="4786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9DD38-C054-411B-952A-C2D25CB03A3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Прямоугольник 1"/>
          <p:cNvSpPr/>
          <p:nvPr/>
        </p:nvSpPr>
        <p:spPr>
          <a:xfrm>
            <a:off x="357120" y="260280"/>
            <a:ext cx="8472600" cy="647640"/>
          </a:xfrm>
          <a:prstGeom prst="rect">
            <a:avLst/>
          </a:prstGeom>
          <a:solidFill>
            <a:srgbClr val="fefac9"/>
          </a:solidFill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бов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’</a:t>
            </a:r>
            <a:r>
              <a:rPr b="1" lang="uk-UA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язки педагогічних  та науково-педагогічних працівникі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оугольник 2"/>
          <p:cNvSpPr/>
          <p:nvPr/>
        </p:nvSpPr>
        <p:spPr>
          <a:xfrm>
            <a:off x="357120" y="907920"/>
            <a:ext cx="8472600" cy="378000"/>
          </a:xfrm>
          <a:prstGeom prst="rect">
            <a:avLst/>
          </a:prstGeom>
          <a:solidFill>
            <a:srgbClr val="fefac9"/>
          </a:solidFill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акон «Про освіту» 2017 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рямоугольник 8"/>
          <p:cNvSpPr/>
          <p:nvPr/>
        </p:nvSpPr>
        <p:spPr>
          <a:xfrm>
            <a:off x="357120" y="1413000"/>
            <a:ext cx="8472600" cy="5016240"/>
          </a:xfrm>
          <a:prstGeom prst="rect">
            <a:avLst/>
          </a:prstGeom>
          <a:solidFill>
            <a:srgbClr val="fefac9"/>
          </a:solidFill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uk-UA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дотримуватися принципу академічної доброчесності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 забезпечувати його реалізацію в освітньому та науковому процесі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ійно підвищувати професійний рівень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педагогічну майстерність, загальну ерудицію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помагати здобувачам освіти засвоювати освітні програми на рівні обов'язкових вимог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щодо змісту, рівня та обсягу освіти, сприяти розвитку їхніх здібносте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uk-UA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дотримуватися педагогічної етики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поважати гідність дитини, учня, студента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хищати дітей, молодь від будь-яких форм фізичного насильства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морального і психологічного тиску та дискримінації за будь-якою ознако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746680"/>
          </a:xfrm>
          <a:prstGeom prst="rect">
            <a:avLst/>
          </a:prstGeom>
          <a:noFill/>
          <a:ln w="9360">
            <a:solidFill>
              <a:srgbClr val="c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uk-UA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кадемічна доброчесність</a:t>
            </a:r>
            <a:r>
              <a:rPr b="0" lang="uk-UA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0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це </a:t>
            </a:r>
            <a:r>
              <a:rPr b="1" i="1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купність принципів, правил поведінки учасників освітнього процесу</a:t>
            </a:r>
            <a:r>
              <a:rPr b="1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спрямованих на формування самостійної і відповідальної особистості, спроможної вирішувати завдання відповідно до освітнього рівня з дотриманням норм права та суспільної моралі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F5729-FE0D-4D0D-B12B-C3552814C9B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9360">
            <a:solidFill>
              <a:srgbClr val="c00000"/>
            </a:solidFill>
            <a:miter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рушенням академічної доброчесності вважається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c00000"/>
                </a:solidFill>
                <a:latin typeface="Arial"/>
                <a:ea typeface="Arial"/>
              </a:rPr>
              <a:t>академічний плагіат</a:t>
            </a:r>
            <a:r>
              <a:rPr b="0" lang="uk-UA" sz="1600" spc="-1" strike="noStrike">
                <a:solidFill>
                  <a:srgbClr val="c00000"/>
                </a:solidFill>
                <a:latin typeface="Arial"/>
                <a:ea typeface="Arial"/>
              </a:rPr>
              <a:t> </a:t>
            </a:r>
            <a:r>
              <a:rPr b="0" lang="uk-UA" sz="1600" spc="-1" strike="noStrike">
                <a:solidFill>
                  <a:srgbClr val="000000"/>
                </a:solidFill>
                <a:latin typeface="Calibri"/>
              </a:rPr>
              <a:t>- оприлюднення (частково або повністю) наукових (творчих) результатів, отриманих іншими особами, як результатів власного дослідження (творчості) та/або відтворення опублікованих текстів (оприлюднених творів мистецтва) інших авторів без зазначення авторства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c00000"/>
                </a:solidFill>
                <a:latin typeface="Arial"/>
                <a:ea typeface="Arial"/>
              </a:rPr>
              <a:t>самоплагіат</a:t>
            </a:r>
            <a:r>
              <a:rPr b="0" lang="uk-UA" sz="1600" spc="-1" strike="noStrike">
                <a:solidFill>
                  <a:srgbClr val="c00000"/>
                </a:solidFill>
                <a:latin typeface="Arial"/>
                <a:ea typeface="Arial"/>
              </a:rPr>
              <a:t> </a:t>
            </a:r>
            <a:r>
              <a:rPr b="0" lang="uk-UA" sz="1600" spc="-1" strike="noStrike">
                <a:solidFill>
                  <a:srgbClr val="000000"/>
                </a:solidFill>
                <a:latin typeface="Calibri"/>
              </a:rPr>
              <a:t>- оприлюднення (частково або повністю) власних раніше опублікованих наукових результатів як нових наукових результатів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c00000"/>
                </a:solidFill>
                <a:latin typeface="Arial"/>
                <a:ea typeface="Arial"/>
              </a:rPr>
              <a:t>фабрикація</a:t>
            </a:r>
            <a:r>
              <a:rPr b="1" lang="uk-UA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uk-UA" sz="1600" spc="-1" strike="noStrike">
                <a:solidFill>
                  <a:srgbClr val="000000"/>
                </a:solidFill>
                <a:latin typeface="Calibri"/>
              </a:rPr>
              <a:t>- вигадування даних чи фактів, що використовуються в освітньому процесі або наукових дослідженнях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c00000"/>
                </a:solidFill>
                <a:latin typeface="Arial"/>
                <a:ea typeface="Arial"/>
              </a:rPr>
              <a:t>фальсифікація</a:t>
            </a:r>
            <a:r>
              <a:rPr b="0" lang="uk-UA" sz="1600" spc="-1" strike="noStrike">
                <a:solidFill>
                  <a:srgbClr val="000000"/>
                </a:solidFill>
                <a:latin typeface="Calibri"/>
              </a:rPr>
              <a:t> - свідома зміна чи модифікація вже наявних даних, що стосуються освітнього процесу чи наукових досліджень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c00000"/>
                </a:solidFill>
                <a:latin typeface="Arial"/>
                <a:ea typeface="Arial"/>
              </a:rPr>
              <a:t>списування</a:t>
            </a:r>
            <a:r>
              <a:rPr b="0" lang="uk-UA" sz="1600" spc="-1" strike="noStrike">
                <a:solidFill>
                  <a:srgbClr val="000000"/>
                </a:solidFill>
                <a:latin typeface="Calibri"/>
              </a:rPr>
              <a:t> - виконання письмових робіт із залученням зовнішніх джерел інформації, крім дозволених для використання, зокрема під час оцінювання результатів навчання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c00000"/>
                </a:solidFill>
                <a:latin typeface="Arial"/>
                <a:ea typeface="Arial"/>
              </a:rPr>
              <a:t>обман</a:t>
            </a:r>
            <a:r>
              <a:rPr b="0" lang="uk-UA" sz="1600" spc="-1" strike="noStrike">
                <a:solidFill>
                  <a:srgbClr val="000000"/>
                </a:solidFill>
                <a:latin typeface="Calibri"/>
              </a:rPr>
              <a:t> - надання завідомо неправдивої інформації щодо власної освітньої (наукової, творчої) діяльності чи організації освітнього процесу; формами обману є, зокрема, академічний плагіат, самоплагіат, фабрикація, фальсифікація та списування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c00000"/>
                </a:solidFill>
                <a:latin typeface="Arial"/>
                <a:ea typeface="Arial"/>
              </a:rPr>
              <a:t>хабарництво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uk-UA" sz="1600" spc="-1" strike="noStrike">
                <a:solidFill>
                  <a:srgbClr val="000000"/>
                </a:solidFill>
                <a:latin typeface="Calibri"/>
              </a:rPr>
              <a:t>- надання (отримання) учасником освітнього процесу чи пропозиція щодо надання (отримання) коштів, майна, послуг, пільг чи будь-яких інших благ матеріального або нематеріального характеру з метою отримання неправомірної переваги в освітньому процесі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c00000"/>
                </a:solidFill>
                <a:latin typeface="Arial"/>
                <a:ea typeface="Arial"/>
              </a:rPr>
              <a:t>необ’єктивне оцінювання</a:t>
            </a:r>
            <a:r>
              <a:rPr b="0" lang="uk-UA" sz="1600" spc="-1" strike="noStrike">
                <a:solidFill>
                  <a:srgbClr val="c00000"/>
                </a:solidFill>
                <a:latin typeface="Arial"/>
                <a:ea typeface="Arial"/>
              </a:rPr>
              <a:t> </a:t>
            </a:r>
            <a:r>
              <a:rPr b="0" lang="uk-UA" sz="1600" spc="-1" strike="noStrike">
                <a:solidFill>
                  <a:srgbClr val="000000"/>
                </a:solidFill>
                <a:latin typeface="Calibri"/>
              </a:rPr>
              <a:t>- свідоме завищення або заниження оцінки результатів навчання здобувачів освіт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9DACB-F049-4DA3-B084-3F79264861D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9360">
            <a:solidFill>
              <a:srgbClr val="c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uk-UA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агальні вимоги до педагогічних і науково-педагогічних працівників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9360">
            <a:solidFill>
              <a:srgbClr val="c00000"/>
            </a:solidFill>
            <a:miter/>
          </a:ln>
        </p:spPr>
        <p:txBody>
          <a:bodyPr anchor="t">
            <a:normAutofit fontScale="99000"/>
          </a:bodyPr>
          <a:p>
            <a:pPr marL="509040" indent="-50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дагогічною діяльністю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уть займатися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и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які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ють відповідну освіту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ізичний і психічний стан, що дозволяє виконувати посадові обов'язки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івень освіти, необхідний для провадження педагогічної та науково-педагогічної діяльності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   Педагогічні та науково-педагогічні працівники приймаються на роботу шляхом укладання трудового договору, </a:t>
            </a:r>
            <a:r>
              <a:rPr b="1" lang="uk-UA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 тому числі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 формі контракту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uk-UA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за результатами конкурсного відбору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 порядку, визначеному центральним органом виконавчої влади у сфері освіт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24DFE-0142-450B-AA42-2DDFF45F806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457200" y="1600200"/>
            <a:ext cx="8229600" cy="468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8" name="Прямоугольник 3"/>
          <p:cNvGrpSpPr/>
          <p:nvPr/>
        </p:nvGrpSpPr>
        <p:grpSpPr>
          <a:xfrm>
            <a:off x="353880" y="1285920"/>
            <a:ext cx="8436240" cy="5072040"/>
            <a:chOff x="353880" y="1285920"/>
            <a:chExt cx="8436240" cy="5072040"/>
          </a:xfrm>
        </p:grpSpPr>
        <p:pic>
          <p:nvPicPr>
            <p:cNvPr id="79" name="Прямоугольник 3" descr=""/>
            <p:cNvPicPr/>
            <p:nvPr/>
          </p:nvPicPr>
          <p:blipFill>
            <a:blip r:embed="rId1"/>
            <a:stretch/>
          </p:blipFill>
          <p:spPr>
            <a:xfrm>
              <a:off x="353880" y="1285920"/>
              <a:ext cx="8436240" cy="507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"/>
            <p:cNvSpPr/>
            <p:nvPr/>
          </p:nvSpPr>
          <p:spPr>
            <a:xfrm>
              <a:off x="428760" y="1357200"/>
              <a:ext cx="8286480" cy="492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Прямоугольник 1"/>
          <p:cNvSpPr/>
          <p:nvPr/>
        </p:nvSpPr>
        <p:spPr>
          <a:xfrm>
            <a:off x="428760" y="260280"/>
            <a:ext cx="8286480" cy="865080"/>
          </a:xfrm>
          <a:prstGeom prst="rect">
            <a:avLst/>
          </a:prstGeom>
          <a:solidFill>
            <a:srgbClr val="ffffcc"/>
          </a:solidFill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ержавні гарантії педагогічним та науково-педагогічни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Прямоугольник 6"/>
          <p:cNvSpPr/>
          <p:nvPr/>
        </p:nvSpPr>
        <p:spPr>
          <a:xfrm>
            <a:off x="442800" y="1125360"/>
            <a:ext cx="8272440" cy="503280"/>
          </a:xfrm>
          <a:prstGeom prst="rect">
            <a:avLst/>
          </a:prstGeom>
          <a:solidFill>
            <a:srgbClr val="ffffcc"/>
          </a:solidFill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он «Про освіту» 2017 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Прямоугольник 8"/>
          <p:cNvSpPr/>
          <p:nvPr/>
        </p:nvSpPr>
        <p:spPr>
          <a:xfrm>
            <a:off x="442800" y="1628640"/>
            <a:ext cx="8272440" cy="4824720"/>
          </a:xfrm>
          <a:prstGeom prst="rect">
            <a:avLst/>
          </a:prstGeom>
          <a:solidFill>
            <a:srgbClr val="ffffcc"/>
          </a:solidFill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7840" indent="-17784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ежні умови праці, відпочинку, медичне обслуговуванн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c00000"/>
              </a:buClr>
              <a:buFont typeface="Arial"/>
              <a:buAutoNum type="arabicPeriod"/>
              <a:tabLst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c00000"/>
                </a:solidFill>
                <a:latin typeface="Arial"/>
                <a:ea typeface="Arial"/>
              </a:rPr>
              <a:t>Оплату підвищення кваліфікації впродовж п’ятирічного циклу</a:t>
            </a:r>
            <a:r>
              <a:rPr b="1" lang="uk-UA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овий, соціальний, професійний захист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buClr>
                <a:srgbClr val="c00000"/>
              </a:buClr>
              <a:buFont typeface="Times New Roman"/>
              <a:buAutoNum type="arabicPeriod"/>
              <a:tabLst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становлення доплат до посадових окладів</a:t>
            </a:r>
            <a:r>
              <a:rPr b="0" lang="uk-UA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тавок заробітної плати) </a:t>
            </a:r>
            <a:r>
              <a:rPr b="1" lang="uk-UA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а наукові ступені, вчені звання та кваліфікаційні категорії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buClr>
                <a:srgbClr val="c00000"/>
              </a:buClr>
              <a:buFont typeface="Times New Roman"/>
              <a:buAutoNum type="arabicPeriod"/>
              <a:tabLst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Щомісячну виплату надбавок за вислугу років у відсотках до посадового окладу</a:t>
            </a:r>
            <a:r>
              <a:rPr b="0" lang="uk-UA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тавки заробітної плати) залежно від стажу педагогічної роботи у розмірах, що встановлюються законодавчими та нормативними актам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дання педагогічним і науково-педагогічним працівникам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щорічної </a:t>
            </a:r>
            <a:r>
              <a:rPr b="1" lang="uk-UA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грошової винагороди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розмірі </a:t>
            </a:r>
            <a:r>
              <a:rPr b="1" lang="uk-UA" sz="1800" spc="-1" strike="noStrike">
                <a:solidFill>
                  <a:srgbClr val="c00000"/>
                </a:solidFill>
                <a:latin typeface="Arial"/>
                <a:ea typeface="Arial"/>
              </a:rPr>
              <a:t>до одного посадового окладу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тавки заробітної плати) </a:t>
            </a:r>
            <a:r>
              <a:rPr b="1" i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сумлінну працю, зразкове виконання службових обов'язків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плату педагогічним і науково-педагогічним працівникам </a:t>
            </a:r>
            <a:r>
              <a:rPr b="1" lang="uk-UA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опомоги на оздоровлення у розмірі місячного посадового окладу</a:t>
            </a:r>
            <a:r>
              <a:rPr b="0" lang="uk-UA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тавки заробітної плати) при наданні щорічної відпустк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дання пільгових довготермінових кредитів на будівництво (реконструкцію) і придбання жит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97080"/>
          </a:xfrm>
          <a:prstGeom prst="rect">
            <a:avLst/>
          </a:prstGeom>
          <a:solidFill>
            <a:srgbClr val="ffffcc"/>
          </a:solidFill>
          <a:ln w="9360">
            <a:solidFill>
              <a:srgbClr val="93540a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uk-UA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ЕРЖАВНИЙ СТАНДАРТ початкової загальної освіти 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останова КМУ від 20.04.2011 р. № 462)</a:t>
            </a:r>
            <a:br>
              <a:rPr sz="2000"/>
            </a:b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ЕРЖАВНИЙ СТАНДАРТ базової і повної загальної середньої освіти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анова КМУвід 23 .11. 2011 р. № 1392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42680"/>
            <a:ext cx="8229600" cy="4483080"/>
          </a:xfrm>
          <a:prstGeom prst="rect">
            <a:avLst/>
          </a:prstGeom>
          <a:solidFill>
            <a:srgbClr val="ffffcc"/>
          </a:solidFill>
          <a:ln w="9360">
            <a:solidFill>
              <a:srgbClr val="93540a"/>
            </a:solidFill>
            <a:miter/>
          </a:ln>
        </p:spPr>
        <p:txBody>
          <a:bodyPr anchor="t">
            <a:normAutofit fontScale="97000"/>
          </a:bodyPr>
          <a:p>
            <a:pPr marL="330840" indent="-330840">
              <a:lnSpc>
                <a:spcPct val="100000"/>
              </a:lnSpc>
              <a:buClr>
                <a:srgbClr val="c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іяльнісний підхід</a:t>
            </a:r>
            <a:r>
              <a:rPr b="0" lang="uk-UA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прямованість навчально-виховного процесу на розвиток умінь і навичок особистості, застосування на практиці здобутих знань з різних навчальних предметів, успішну адаптацію людини в соціумі, професійну самореалізацію, формування здібностей до колективної діяльності та самоосвіти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0840" indent="-330840">
              <a:lnSpc>
                <a:spcPct val="100000"/>
              </a:lnSpc>
              <a:buClr>
                <a:srgbClr val="c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омпетентнісний підхід</a:t>
            </a:r>
            <a:r>
              <a:rPr b="0" lang="uk-UA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прямованість навчально-виховного процесу на досягнення результатів, якими є ієрархічно підпорядковані ключова, загальнопредметна і предметна (галузева) компетентності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0840" indent="-330840">
              <a:lnSpc>
                <a:spcPct val="100000"/>
              </a:lnSpc>
              <a:buClr>
                <a:srgbClr val="c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собистісно зорієнтований підхід</a:t>
            </a:r>
            <a:r>
              <a:rPr b="0" lang="uk-UA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прямованість навчально-виховного процесу на взаємодію і плідний розвиток особистості педагога та його учнів на основі рівності у спілкуванні та партнерства у навчанні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5C672-6691-40CC-8E15-2A83779F7F4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9360">
            <a:solidFill>
              <a:srgbClr val="c00000"/>
            </a:solidFill>
            <a:miter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ва українська школа: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и Стандарту освіти. –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ьвів, 2016. – 64 с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5FA18-9671-4B37-9E44-7B13598AF0E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solidFill>
            <a:srgbClr val="ffffcc"/>
          </a:solidFill>
          <a:ln w="9360">
            <a:solidFill>
              <a:srgbClr val="c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2400"/>
            </a:br>
            <a:br>
              <a:rPr sz="2400"/>
            </a:br>
            <a:r>
              <a:rPr b="1" lang="uk-UA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о недопущення перевантаження учнів</a:t>
            </a:r>
            <a:br>
              <a:rPr sz="2000"/>
            </a:br>
            <a:r>
              <a:rPr b="1" lang="uk-UA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чаткових класів надмірним обсягом домашніх завдань</a:t>
            </a:r>
            <a:br>
              <a:rPr sz="2000"/>
            </a:b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ст МОНУ № 1/9-72 від 28 січня 2014 року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285560"/>
            <a:ext cx="8229600" cy="5000760"/>
          </a:xfrm>
          <a:prstGeom prst="rect">
            <a:avLst/>
          </a:prstGeom>
          <a:solidFill>
            <a:srgbClr val="ffffcc"/>
          </a:solidFill>
          <a:ln w="9360">
            <a:solidFill>
              <a:srgbClr val="c00000"/>
            </a:solidFill>
            <a:miter/>
          </a:ln>
        </p:spPr>
        <p:txBody>
          <a:bodyPr anchor="t">
            <a:normAutofit/>
          </a:bodyPr>
          <a:p>
            <a:pPr marL="341280" indent="-341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МОНУ </a:t>
            </a:r>
            <a:r>
              <a:rPr b="1" lang="uk-UA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вертає увагу </a:t>
            </a:r>
            <a:r>
              <a:rPr b="1" lang="uk-UA" sz="19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а недопущення перевантаження учнів початкових класів </a:t>
            </a:r>
            <a:r>
              <a:rPr b="1" lang="uk-UA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гальноосвітніх навчальних закладів та шкіл-дитячих садків надмірним обсягом домашніх завдань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</a:t>
            </a:r>
            <a:r>
              <a:rPr b="1" lang="uk-UA" sz="19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бсяг домашніх завдань визначається згідно з Державними санітарними правилами </a:t>
            </a:r>
            <a:r>
              <a:rPr b="1" lang="uk-UA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і нормами влаштування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  </a:t>
            </a:r>
            <a:r>
              <a:rPr b="1" lang="uk-UA" sz="19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У 1-му класі </a:t>
            </a:r>
            <a:r>
              <a:rPr b="1" lang="uk-UA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машні завдання </a:t>
            </a:r>
            <a:r>
              <a:rPr b="1" lang="uk-UA" sz="19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не задаються</a:t>
            </a:r>
            <a:r>
              <a:rPr b="0" lang="uk-UA" sz="19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.</a:t>
            </a:r>
            <a:r>
              <a:rPr b="0" lang="uk-UA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uk-UA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2-4 класах обсяг домашніх завдань</a:t>
            </a:r>
            <a:r>
              <a:rPr b="0" lang="uk-UA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 усіх предметів має бути таким, щоб витрати часу на їх виконання не перевищували: у 2-му класі – 45 хвилин; у 3-му класі – 1 години 10 хвилин; 4-му класі – 1 години 30 хвилин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uk-UA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 Учителі повинні спланувати роботу такого об’єму і змісту, щоб учні не відчували перевантаження, враховувати зайнятість учнів з інших предметів у цей день</a:t>
            </a:r>
            <a:r>
              <a:rPr b="0" lang="uk-UA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темп і ритм роботи учнів, стан їхнього здоров’я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)   Класному керівникові необхідно здійснювати сумарний підрахунок усіх домашніх завдань</a:t>
            </a:r>
            <a:r>
              <a:rPr b="0" lang="uk-UA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 той чи інший день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)   Домашні завдання не даються учням на вихідні, святкові та канікулярні дні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EFE01-87CB-49C9-B395-C58E4F9DD97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57200" y="428760"/>
            <a:ext cx="8229600" cy="5697360"/>
          </a:xfrm>
          <a:prstGeom prst="rect">
            <a:avLst/>
          </a:prstGeom>
          <a:solidFill>
            <a:srgbClr val="ffffcc"/>
          </a:solidFill>
          <a:ln w="9360">
            <a:solidFill>
              <a:srgbClr val="c00000"/>
            </a:solidFill>
            <a:miter/>
          </a:ln>
        </p:spPr>
        <p:txBody>
          <a:bodyPr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ст Міністерства освіти і науки України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ід 05.06.2001 № 1/12-1459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т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ржавні санітарні правила і норми влаштування, утримання загальноосвітніх навчальних закладів та організації навчально-виховного процесу ДСанПіН 5.5.2.008-01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uk-UA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изначають: </a:t>
            </a:r>
            <a:br>
              <a:rPr sz="2400"/>
            </a:b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При визначенні доцільності, характеру, змісту та обсягу </a:t>
            </a:r>
            <a:r>
              <a:rPr b="1" lang="uk-UA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омашніх завдань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ід враховувати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індивідуальні особливості учнів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а </a:t>
            </a:r>
            <a:r>
              <a:rPr b="0" i="1" lang="uk-UA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едагогічні вимоги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сяг домашніх завдань має бути таким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щоб витрати часу на їх виконання не перевищували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5-6-му класах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2,5 години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7-9 класах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3 години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10-12 класах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4 годин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08626-A7D3-40FA-B5B9-A22CDEFDB56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457200" y="404280"/>
            <a:ext cx="8229600" cy="5721480"/>
          </a:xfrm>
          <a:prstGeom prst="rect">
            <a:avLst/>
          </a:prstGeom>
          <a:solidFill>
            <a:srgbClr val="faf2d4"/>
          </a:solidFill>
          <a:ln w="9360">
            <a:solidFill>
              <a:srgbClr val="c00000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рмативно-правові акти загального значення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A5EE0-310A-45BC-BAAD-9504528D333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457200" y="571320"/>
            <a:ext cx="8229600" cy="5554440"/>
          </a:xfrm>
          <a:prstGeom prst="rect">
            <a:avLst/>
          </a:prstGeom>
          <a:solidFill>
            <a:srgbClr val="ffffcc"/>
          </a:solidFill>
          <a:ln w="9360">
            <a:solidFill>
              <a:srgbClr val="c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ієнтовна програма здійснення внутрішнього контролю в загальноосвітньому навчальному закладі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лист МОН України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ід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.08.</a:t>
            </a: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3 р. №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/9-533</a:t>
            </a: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3EC06-D384-4445-8E31-FD4F11DB6A1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c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ru-RU" sz="2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о сучасні підходи до навчально- виховного процесу учнів з особливими освітніми потребами</a:t>
            </a:r>
            <a:br>
              <a:rPr sz="28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Лист МОН № 1/9-2 від 10.01.17 року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br>
              <a:rPr sz="2000"/>
            </a:br>
            <a:br>
              <a:rPr sz="28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557000"/>
            <a:ext cx="8229600" cy="4568760"/>
          </a:xfrm>
          <a:prstGeom prst="rect">
            <a:avLst/>
          </a:prstGeom>
          <a:noFill/>
          <a:ln w="9360">
            <a:solidFill>
              <a:srgbClr val="c00000"/>
            </a:solidFill>
            <a:miter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тримка психічного розвитку (далі - ЗПР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не є стійким незворотнім психічним порушенням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Під впливом кваліфікованої корекційної допомоги практичного психолога, посада якого передбачена у штаті працівників загальноосвітніх навчальних закладів, а також вчителя-логопеда, 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іти із ЗПР досягають стабільних успіхів у навчанні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 в подальшому 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ють можливість опанувати Державний стандарт базової повної загальної с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За 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жанням батьків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 рекомендацією психолого-медико-педагогічної консультації, 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тина із ЗПР може навчатися в інклюзивному класі загальноосвітньої школи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ідповідно до постанови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МУ від 15 серпня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1 р. № 872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П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твердження Порядку організації інклюзивного навчання у загальноосвітніх навчальних закладах» с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редньої освіт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3C536-B090-4E35-96E1-791F91D21F1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457200" y="475920"/>
            <a:ext cx="8229600" cy="5977080"/>
          </a:xfrm>
          <a:prstGeom prst="rect">
            <a:avLst/>
          </a:prstGeom>
          <a:noFill/>
          <a:ln w="9360">
            <a:solidFill>
              <a:srgbClr val="c00000"/>
            </a:solidFill>
            <a:miter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навчання в інклюзивних класах здійснюється також за </a:t>
            </a:r>
            <a:r>
              <a:rPr b="1" lang="uk-UA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іальними підручниками;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</a:t>
            </a:r>
            <a:r>
              <a:rPr b="1" lang="uk-UA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голошується на особливій актуальності питання забезпечення сліпих учнів, не залежно від місця та форми їх навчання, підручниками, надрукованими шрифтом Брайля. </a:t>
            </a:r>
            <a:r>
              <a:rPr b="1" lang="uk-UA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 пряма відповідальність органів управління освіти</a:t>
            </a:r>
            <a:r>
              <a:rPr b="0" lang="uk-UA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вертається увага, що постановою КМУ від 26 жовтня 2016 р. за № 753 установлено </a:t>
            </a:r>
            <a:r>
              <a:rPr b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 навчання у школі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</a:t>
            </a:r>
            <a:r>
              <a:rPr b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упеня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З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ля дітей з особливими освітніми потребами з обов’язковим підготовчим класом та 1-4 класи (</a:t>
            </a:r>
            <a:r>
              <a:rPr b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років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) Постановою КМУ від 23 квітня 2003 р. № 585 слова «</a:t>
            </a:r>
            <a:r>
              <a:rPr b="0" i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кі потребують корекції фізичного та (або) розумового розвитку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 </a:t>
            </a:r>
            <a:r>
              <a:rPr b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мінено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ловами «</a:t>
            </a:r>
            <a:r>
              <a:rPr b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 особливими освітніми потребами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; слова «</a:t>
            </a:r>
            <a:r>
              <a:rPr b="0" i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зумово відсталих дітей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 </a:t>
            </a:r>
            <a:r>
              <a:rPr b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мінено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ловами «</a:t>
            </a:r>
            <a:r>
              <a:rPr b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ітей з порушеннями розумового розвитку». 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) 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ановою КМУ від 27 вересня 2016 р. за № 671 «П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 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есення змін до деяких постанов Кабінету Міністрів України» </a:t>
            </a:r>
            <a:r>
              <a:rPr b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тановлено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що учням </a:t>
            </a:r>
            <a:r>
              <a:rPr b="0" i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 порушеннями розумового розвитку </a:t>
            </a:r>
            <a:r>
              <a:rPr b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ається свідоцтво про базову загальну середню освіту за спеціальною програмою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учням </a:t>
            </a:r>
            <a:r>
              <a:rPr b="0" i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 помірною розумовою відсталістю 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ається </a:t>
            </a:r>
            <a:r>
              <a:rPr b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відка про закінчення повного курсу навчання за спеціальною програмою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97B5B-2FD0-47C5-8A51-7613381D0A6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9360">
            <a:solidFill>
              <a:srgbClr val="c00000"/>
            </a:solidFill>
            <a:miter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ложення про індивідуальну форму навчання в загальноосвітніх навчальних заклада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затверджено наказом МОНУ № 8 від 12.01.2016 р.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тратив чинність, наказ МОНУ № 732 від 20.12.2002 р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1" i="1" lang="uk-UA" sz="25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Індивідуальна форма навчання</a:t>
            </a:r>
            <a:r>
              <a:rPr b="1" i="1" lang="uk-UA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 </a:t>
            </a:r>
            <a:r>
              <a:rPr b="0" lang="uk-UA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1" lang="uk-UA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сіб організації навчальної діяльності</a:t>
            </a:r>
            <a:r>
              <a:rPr b="0" lang="uk-UA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який регулюється певним, наперед визначеним розпорядком, забезпечується педагогічними працівниками за місцем проживання учнів та організовується для забезпечення права громадян на здобуття повної загальної середньої освіти»;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а з форм організації навчально-виховного процесу</a:t>
            </a:r>
            <a:r>
              <a:rPr b="0" lang="uk-UA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D423A-E9E1-4C49-93CD-7C8977E718F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9360">
            <a:solidFill>
              <a:srgbClr val="c00000"/>
            </a:solidFill>
            <a:miter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ідстави для організації індивідуальної форми навчання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ява одного з батьків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бо їх законних представників (для повнолітніх – їх особиста заява) про зарахування на індивідуальну форму навчання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каз керівника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вчального закладу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годження відповідного органу управління освітою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817F2-0E65-4D3F-AF35-B9A3604FC97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9360">
            <a:solidFill>
              <a:srgbClr val="c00000"/>
            </a:solidFill>
            <a:miter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Індивідуальна форма навчання запроваджується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ля осіб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кі </a:t>
            </a:r>
            <a:r>
              <a:rPr b="1" lang="uk-UA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а станом здоров’я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можуть відвідувати навчальний заклад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оживають у селах і селищах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коли кількість учнів у класі становить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нше 5 осіб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оживають у зоні збройного конфлікту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на тимчасово окупованій території України або у населених пунктах, на території яких органи державної влади тимчасово не здійснюють або здійснюють не в повному обсязі свої повноваження тощо та надзвичайних ситуацій природного або техногенного характеру (з використанням дистанційної форми навчання) відповідно до Закону України  «Про забезпечення прав і свобод громадян та правовий режим на тимчасово окупованій території України»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ають високий навчальний потенціал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і можуть прискорено закінчити школу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є іноземцями або особами без громадянства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діти-біженці, діти, чиї батьки подали заяви про визнання біженцями або особами, які потребують додаткового чи тимчасового захисту, діти іноземців та осіб без громадянства, які утримуються в пунктах тимчасового перебування іноземців та осіб без громадянства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345D8-7420-4EA0-85D8-4AAB512B558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c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uk-UA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ЛОЖЕННЯ</a:t>
            </a:r>
            <a:br>
              <a:rPr sz="2400"/>
            </a:br>
            <a:r>
              <a:rPr b="1" lang="uk-UA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о екстернат у загальноосвітніх навчальних закладах</a:t>
            </a:r>
            <a:br>
              <a:rPr sz="2400"/>
            </a:b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тверджено наказом МОНУ 13.03.2017  № 369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c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uk-UA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екстернат</a:t>
            </a:r>
            <a:r>
              <a:rPr b="0" lang="uk-UA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- </a:t>
            </a:r>
            <a:r>
              <a:rPr b="1" lang="uk-UA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форма</a:t>
            </a:r>
            <a:r>
              <a:rPr b="0" lang="uk-UA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обуття загальної середньої освіти, що передбачає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стійне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у тому числі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скорене, опанування екстерном змісту навчальних предметів певного освітнього рівня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а/або за певний клас в обсязі, визначеному відповідним державним стандартом загальної середньої освіти, та отримання відповідного документа про освіт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uk-UA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ргани управління освітою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еред підпорядкованих загальноосвітніх навчальних закладів </a:t>
            </a:r>
            <a:r>
              <a:rPr b="1" lang="uk-UA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изначають заклади, у яких організовується екстернат</a:t>
            </a:r>
            <a:r>
              <a:rPr b="0" lang="uk-UA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 здійснюється річне оцінювання і атестація екстерні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FFB48-DAAF-4AA3-A0CF-CE84DFECAB6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457200" y="404280"/>
            <a:ext cx="8229600" cy="5721480"/>
          </a:xfrm>
          <a:prstGeom prst="rect">
            <a:avLst/>
          </a:prstGeom>
          <a:solidFill>
            <a:srgbClr val="faf2d4"/>
          </a:solidFill>
          <a:ln w="9360">
            <a:solidFill>
              <a:srgbClr val="c00000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тус педагог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2DFB1-00BA-45D4-884D-B5EA0205ACF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solidFill>
            <a:srgbClr val="faf2d4"/>
          </a:solidFill>
          <a:ln w="9360">
            <a:solidFill>
              <a:srgbClr val="93540a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едагогічне навантаженн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071720"/>
            <a:ext cx="8229600" cy="528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4" name="Прямоугольник 3"/>
          <p:cNvGrpSpPr/>
          <p:nvPr/>
        </p:nvGrpSpPr>
        <p:grpSpPr>
          <a:xfrm>
            <a:off x="353880" y="1000080"/>
            <a:ext cx="8436240" cy="5430960"/>
            <a:chOff x="353880" y="1000080"/>
            <a:chExt cx="8436240" cy="5430960"/>
          </a:xfrm>
        </p:grpSpPr>
        <p:pic>
          <p:nvPicPr>
            <p:cNvPr id="115" name="Прямоугольник 3" descr=""/>
            <p:cNvPicPr/>
            <p:nvPr/>
          </p:nvPicPr>
          <p:blipFill>
            <a:blip r:embed="rId1"/>
            <a:stretch/>
          </p:blipFill>
          <p:spPr>
            <a:xfrm>
              <a:off x="353880" y="1000080"/>
              <a:ext cx="8436240" cy="543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"/>
            <p:cNvSpPr/>
            <p:nvPr/>
          </p:nvSpPr>
          <p:spPr>
            <a:xfrm>
              <a:off x="428760" y="1071720"/>
              <a:ext cx="8286480" cy="528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5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uk-UA" sz="25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Норма педагогічного навантаження становить </a:t>
              </a:r>
              <a:r>
                <a:rPr b="1" lang="uk-UA" sz="25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18 годин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згідно Закону України “Про загальну середню освіту” ст. 25)</a:t>
              </a:r>
              <a:r>
                <a:rPr b="0" lang="uk-UA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5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Доплати педагогічним працівникам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500" spc="-1" strike="noStrike">
                  <a:solidFill>
                    <a:srgbClr val="b55475"/>
                  </a:solidFill>
                  <a:latin typeface="Times New Roman"/>
                  <a:ea typeface="Times New Roman"/>
                </a:rPr>
                <a:t>(</a:t>
              </a:r>
              <a:r>
                <a:rPr b="1" i="1" lang="uk-UA" sz="25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згідно Постанови КМУ від 25 серпня 2004 р. № 1096</a:t>
              </a:r>
              <a:r>
                <a:rPr b="1" lang="uk-UA" sz="2500" spc="-1" strike="noStrike">
                  <a:solidFill>
                    <a:srgbClr val="b55475"/>
                  </a:solidFill>
                  <a:latin typeface="Times New Roman"/>
                  <a:ea typeface="Times New Roman"/>
                </a:rPr>
                <a:t>):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5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класне керівництво – </a:t>
              </a:r>
              <a:r>
                <a:rPr b="1" lang="uk-UA" sz="25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20-25 %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5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еревірка зошитів – </a:t>
              </a:r>
              <a:r>
                <a:rPr b="1" lang="uk-UA" sz="25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10-20 %</a:t>
              </a:r>
              <a:r>
                <a:rPr b="1" lang="uk-UA" sz="2500" spc="-1" strike="noStrike">
                  <a:solidFill>
                    <a:srgbClr val="b55475"/>
                  </a:solidFill>
                  <a:latin typeface="Times New Roman"/>
                  <a:ea typeface="Times New Roman"/>
                </a:rPr>
                <a:t> </a:t>
              </a:r>
              <a:r>
                <a:rPr b="0" lang="uk-UA" sz="25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 </a:t>
              </a:r>
              <a:r>
                <a:rPr b="0" i="1" lang="uk-UA" sz="25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в класах із кількістю учнів менше 12 осіб оплата за класне керівництво та перевірку письмових робіт складає </a:t>
              </a:r>
              <a:r>
                <a:rPr b="1" lang="uk-UA" sz="25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50 % відповідних доплат</a:t>
              </a:r>
              <a:r>
                <a:rPr b="0" lang="uk-UA" sz="25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5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завідування майстернями, навчальними кабінетами, навчально-дослідними ділянками – </a:t>
              </a:r>
              <a:r>
                <a:rPr b="1" lang="uk-UA" sz="25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10-15 %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5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бібліотеками у ЗНЗ та ПТНЗ </a:t>
              </a:r>
              <a:r>
                <a:rPr b="1" lang="uk-UA" sz="2500" spc="-1" strike="noStrike">
                  <a:solidFill>
                    <a:srgbClr val="b55475"/>
                  </a:solidFill>
                  <a:latin typeface="Times New Roman"/>
                  <a:ea typeface="Times New Roman"/>
                </a:rPr>
                <a:t>– </a:t>
              </a:r>
              <a:r>
                <a:rPr b="1" lang="uk-UA" sz="25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5-15 %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5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за керівництво методичними комісіями  у ЗНЗ, ПТНЗ та ВНЗ І-ІІ рівня акредитації </a:t>
              </a:r>
              <a:r>
                <a:rPr b="1" lang="uk-UA" sz="2500" spc="-1" strike="noStrike">
                  <a:solidFill>
                    <a:srgbClr val="b55475"/>
                  </a:solidFill>
                  <a:latin typeface="Times New Roman"/>
                  <a:ea typeface="Times New Roman"/>
                </a:rPr>
                <a:t>– </a:t>
              </a:r>
              <a:r>
                <a:rPr b="1" lang="uk-UA" sz="25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10-15 % 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6BD5E-024A-47A7-B9F2-B608F3A5899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120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1D4A9-6406-4371-93D2-006E16B37BE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57200" y="549000"/>
            <a:ext cx="8229600" cy="5576760"/>
          </a:xfrm>
          <a:prstGeom prst="rect">
            <a:avLst/>
          </a:prstGeom>
          <a:solidFill>
            <a:srgbClr val="faf2d4"/>
          </a:solidFill>
          <a:ln w="9360">
            <a:solidFill>
              <a:srgbClr val="c00000"/>
            </a:solidFill>
            <a:miter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Закони Україн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c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о освіту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7 р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c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о вищу освіту 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№ 1556-VII від 1 липня 2014 р.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c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о дошкільну освіту </a:t>
            </a:r>
            <a:r>
              <a:rPr b="0" i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№ 2628-III від11 липня 2001 р.</a:t>
            </a:r>
            <a:r>
              <a:rPr b="0" i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c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7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о позашкільну освіту </a:t>
            </a:r>
            <a:r>
              <a:rPr b="0" i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№ 1841-III від 22 червня 2000 р.</a:t>
            </a:r>
            <a:r>
              <a:rPr b="0" i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c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о загальну середню освіту</a:t>
            </a:r>
            <a:r>
              <a:rPr b="1" lang="uk-UA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№ 651-XIV 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ід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 травня 1999 р.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c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о професійно-технічну освіту</a:t>
            </a:r>
            <a:r>
              <a:rPr b="1" lang="uk-UA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0" i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№103/98-ВР 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ід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02.1998 р.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c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о професійний розвиток працівників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№ 4312-VI від 12 січня 2012 р.</a:t>
            </a:r>
            <a:r>
              <a:rPr b="0" i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C0DA8-B7CA-4BED-BA9D-5124C62E109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Прямоугольник 4"/>
          <p:cNvGrpSpPr/>
          <p:nvPr/>
        </p:nvGrpSpPr>
        <p:grpSpPr>
          <a:xfrm>
            <a:off x="353880" y="1122480"/>
            <a:ext cx="8436240" cy="5308560"/>
            <a:chOff x="353880" y="1122480"/>
            <a:chExt cx="8436240" cy="5308560"/>
          </a:xfrm>
        </p:grpSpPr>
        <p:pic>
          <p:nvPicPr>
            <p:cNvPr id="123" name="Прямоугольник 4" descr=""/>
            <p:cNvPicPr/>
            <p:nvPr/>
          </p:nvPicPr>
          <p:blipFill>
            <a:blip r:embed="rId1"/>
            <a:stretch/>
          </p:blipFill>
          <p:spPr>
            <a:xfrm>
              <a:off x="353880" y="1122480"/>
              <a:ext cx="8436240" cy="530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>
              <a:off x="428760" y="1197000"/>
              <a:ext cx="8286480" cy="516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Згідно </a:t>
              </a:r>
              <a:r>
                <a:rPr b="1" lang="uk-UA" sz="24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ст. 51 КЗпП </a:t>
              </a:r>
              <a:r>
                <a:rPr b="0" lang="uk-UA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– скорочена тривалість робочого часу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2400" spc="-1" strike="noStrike">
                  <a:solidFill>
                    <a:srgbClr val="93540a"/>
                  </a:solidFill>
                  <a:latin typeface="Times New Roman"/>
                  <a:ea typeface="Times New Roman"/>
                </a:rPr>
                <a:t>Інструкція про обчислення заробітної плати педагогічних працівників № 102 встановлює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buClr>
                  <a:srgbClr val="000000"/>
                </a:buClr>
                <a:buFont typeface="Times New Roman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Робочий час учителів регулюється </a:t>
              </a:r>
              <a:r>
                <a:rPr b="1" lang="uk-UA" sz="24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затвердженим розкладом</a:t>
              </a:r>
              <a:r>
                <a:rPr b="0" lang="uk-UA" sz="24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uk-UA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навчальних занять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buClr>
                  <a:srgbClr val="c00000"/>
                </a:buClr>
                <a:buFont typeface="Times New Roman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24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Під час канікул  </a:t>
              </a:r>
              <a:r>
                <a:rPr b="0" lang="uk-UA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керівник закладу залучає педагогічних працівників до </a:t>
              </a:r>
              <a:r>
                <a:rPr b="0" i="1" lang="uk-UA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едагогічної та організаційної роботи</a:t>
              </a:r>
              <a:r>
                <a:rPr b="0" lang="uk-UA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в </a:t>
              </a:r>
              <a:r>
                <a:rPr b="1" lang="uk-UA" sz="24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межах часу, що не перевищує їх навчального навантаження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buClr>
                  <a:srgbClr val="000000"/>
                </a:buClr>
                <a:buFont typeface="Times New Roman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тавки з/п педпрацівників установлюються, виходячи з витрат робочого часу в астрономічних годинах (60 хв.), тому </a:t>
              </a:r>
              <a:r>
                <a:rPr b="1" lang="uk-UA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короткі перерви між уроками є </a:t>
              </a:r>
              <a:r>
                <a:rPr b="1" lang="uk-UA" sz="24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робочим часом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4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       </a:t>
              </a:r>
              <a:r>
                <a:rPr b="1" lang="uk-UA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едагогічного працівник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Прямоугольник 5"/>
          <p:cNvGrpSpPr/>
          <p:nvPr/>
        </p:nvGrpSpPr>
        <p:grpSpPr>
          <a:xfrm>
            <a:off x="353880" y="212760"/>
            <a:ext cx="8436240" cy="914400"/>
            <a:chOff x="353880" y="212760"/>
            <a:chExt cx="8436240" cy="914400"/>
          </a:xfrm>
        </p:grpSpPr>
        <p:pic>
          <p:nvPicPr>
            <p:cNvPr id="126" name="Прямоугольник 5" descr=""/>
            <p:cNvPicPr/>
            <p:nvPr/>
          </p:nvPicPr>
          <p:blipFill>
            <a:blip r:embed="rId2"/>
            <a:stretch/>
          </p:blipFill>
          <p:spPr>
            <a:xfrm>
              <a:off x="353880" y="212760"/>
              <a:ext cx="843624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428760" y="285840"/>
              <a:ext cx="8286480" cy="76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8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Тривалість робочого часу вчител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Номер слайда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63DB8-93DD-4A70-A673-7C4AE55A2CC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792360"/>
          </a:xfrm>
          <a:prstGeom prst="rect">
            <a:avLst/>
          </a:prstGeom>
          <a:noFill/>
          <a:ln w="9360">
            <a:solidFill>
              <a:srgbClr val="c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uk-UA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плата праці педагогічних і науково-педагогічних працівників (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он “Про освіту” 2017 р.)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125000"/>
            <a:ext cx="8229600" cy="5000760"/>
          </a:xfrm>
          <a:prstGeom prst="rect">
            <a:avLst/>
          </a:prstGeom>
          <a:solidFill>
            <a:srgbClr val="ffffcc"/>
          </a:solidFill>
          <a:ln w="9360">
            <a:solidFill>
              <a:srgbClr val="c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ови та розмір оплати праці педагогічних і науково-педагогічних працівників державних і комунальних закладів освіти встановлюються Кабінетом Міністрів України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дагогічний працівник, що пройшов </a:t>
            </a:r>
            <a:r>
              <a:rPr b="1" lang="uk-UA" sz="23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ертифікацію</a:t>
            </a:r>
            <a:r>
              <a:rPr b="1" lang="uk-UA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отримує щомісячну доплату у розмірі 20 відсотків посадового окладу протягом строку дії сертифікату</a:t>
            </a:r>
            <a:r>
              <a:rPr b="0" lang="uk-UA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дагогічним і науково-педагогічним працівникам встановлюються щомісячні </a:t>
            </a:r>
            <a:r>
              <a:rPr b="1" lang="uk-UA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дбавки за вислугу років</a:t>
            </a:r>
            <a:r>
              <a:rPr b="0" lang="uk-UA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 розмірах: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над три роки — 10 відсотків;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над десять років — 20 відсотків;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над двадцять років — 30 відсотків посадового окладу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B25D5-52B4-4318-B2CE-B7B0227FD7D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solidFill>
            <a:srgbClr val="ffffcc"/>
          </a:solidFill>
          <a:ln w="9360">
            <a:solidFill>
              <a:srgbClr val="c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лата педагогам за роботу </a:t>
            </a: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наднормов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9360">
            <a:solidFill>
              <a:srgbClr val="c00000"/>
            </a:solidFill>
            <a:miter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Інструкції про порядок обчислення заробітної плати працівників освіти від 15.04.1993 № 102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Calibri"/>
              </a:rPr>
              <a:t>за години педагогічної роботи, виконаної понад встановлену норму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, провадиться </a:t>
            </a:r>
            <a:r>
              <a:rPr b="1" lang="uk-UA" sz="2200" spc="-1" strike="noStrike">
                <a:solidFill>
                  <a:srgbClr val="000000"/>
                </a:solidFill>
                <a:latin typeface="Calibri"/>
              </a:rPr>
              <a:t>додаткова оплата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 відповідно до отримуваної ставки заробітної плати </a:t>
            </a:r>
            <a:r>
              <a:rPr b="1" lang="uk-UA" sz="2200" spc="-1" strike="noStrike">
                <a:solidFill>
                  <a:srgbClr val="000000"/>
                </a:solidFill>
                <a:latin typeface="Calibri"/>
              </a:rPr>
              <a:t>в одинарному розмірі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пільний лист МОН України від 28.11.08 1/9-770 та ЦК Профспілки працівників освіти і науки України від 27.11.08 № 02-5/465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 u="sng">
                <a:solidFill>
                  <a:srgbClr val="000000"/>
                </a:solidFill>
                <a:uFillTx/>
                <a:latin typeface="Calibri"/>
              </a:rPr>
              <a:t>керівники навчальних закладів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, як правило, </a:t>
            </a:r>
            <a:r>
              <a:rPr b="0" i="1" lang="uk-UA" sz="2200" spc="-1" strike="noStrike">
                <a:solidFill>
                  <a:srgbClr val="000000"/>
                </a:solidFill>
                <a:latin typeface="Calibri"/>
              </a:rPr>
              <a:t>повинні організувати заміщення тимчасово відсутніх учителів учителями </a:t>
            </a:r>
            <a:r>
              <a:rPr b="1" i="1" lang="uk-UA" sz="2200" spc="-1" strike="noStrike">
                <a:solidFill>
                  <a:srgbClr val="c00000"/>
                </a:solidFill>
                <a:latin typeface="Calibri"/>
              </a:rPr>
              <a:t>тієї ж спеціальності</a:t>
            </a:r>
            <a:r>
              <a:rPr b="0" i="1" lang="uk-UA" sz="2200" spc="-1" strike="noStrike">
                <a:solidFill>
                  <a:srgbClr val="000000"/>
                </a:solidFill>
                <a:latin typeface="Calibri"/>
              </a:rPr>
              <a:t>, забезпечивши оплату праці відповідно до п.73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 (погодинно), чи п.68 (за тарифікацією) Інструкції про порядок обчислення заробітної плати працівників освіт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5E973-92E7-4217-BC98-0253E97AA70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457200" y="404280"/>
            <a:ext cx="8229600" cy="5721480"/>
          </a:xfrm>
          <a:prstGeom prst="rect">
            <a:avLst/>
          </a:prstGeom>
          <a:solidFill>
            <a:srgbClr val="ffffcc"/>
          </a:solidFill>
          <a:ln w="9360">
            <a:solidFill>
              <a:srgbClr val="c00000"/>
            </a:solidFill>
            <a:miter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 окремих виняткових випадках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и таку заміну забезпечити неможливо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uk-UA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заміщення здійснюється наступним чином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учителі з інших дисциплін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заміняючи тимчасово відсутніх колег, </a:t>
            </a:r>
            <a:r>
              <a:rPr b="1" lang="uk-UA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иконують програму з свого предмету дещо наперед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щоб згодом передати відповідні години учителю, який нині відсутній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для виконання відсутнім пропущеної програм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У такому випадку учителю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який забезпечує заміну тимчасово відсутнього колеги, </a:t>
            </a:r>
            <a:r>
              <a:rPr b="1" lang="uk-UA" sz="24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додаткова оплата не провадиться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оскільки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гальний обсяг педагогічного навантаження </a:t>
            </a:r>
            <a:r>
              <a:rPr b="1" lang="uk-UA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не збільшився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а дещо розподілився в часі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C9BAB-82BD-4B3C-8A80-B7A82A1CCCF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457200" y="404640"/>
            <a:ext cx="8229600" cy="5904000"/>
          </a:xfrm>
          <a:prstGeom prst="rect">
            <a:avLst/>
          </a:prstGeom>
          <a:noFill/>
          <a:ln w="9360">
            <a:solidFill>
              <a:srgbClr val="c00000"/>
            </a:solidFill>
            <a:miter/>
          </a:ln>
        </p:spPr>
        <p:txBody>
          <a:bodyPr anchor="t">
            <a:normAutofit fontScale="99000"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станова КМУ від 01.03.2014 № 65 «Про економію державних коштів та недопущення втрат бюджету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затверджені відповідні </a:t>
            </a:r>
            <a:r>
              <a:rPr b="1" lang="uk-UA" sz="2000" spc="-1" strike="noStrike">
                <a:solidFill>
                  <a:srgbClr val="000000"/>
                </a:solidFill>
                <a:latin typeface="Calibri"/>
              </a:rPr>
              <a:t>Заходи щодо економного та раціонального використання державних коштів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. 12 Заходів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ередбачено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мчасове припинення встановлення доплат за виконання обов'язків тимчасово відсутніх працівників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uk-UA" sz="20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крім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лікарів, фахівців з базовою та неповною вищою медичною освітою і професіоналів з вищою немедичною освітою та наукових працівників, що допущенні до медичної діяльності, молодших медичних сестер, соціальних робітників, вихователів, помічників вихователів, </a:t>
            </a:r>
            <a:r>
              <a:rPr b="1" lang="uk-UA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учителів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майстрів виробничого навчання, викладачів професійно-технічних та вищих навчальних закладів, а також працівників вищих навчальних закладів, переміщених з району проведення антитерористичної операції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.12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має прямої дії стосовно комунальних навчальних закладів і не поширюється на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і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Години заміщення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проведені вчителем за відсутніх колег </a:t>
            </a:r>
            <a:r>
              <a:rPr b="1" i="1" lang="uk-UA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ають оплачуватися з погодинного розрахунку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виходячи зі ставки заробітної плати вчителя, який замінює тимчасово відсутнього колегу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FB490-C376-4C13-9331-CEEE1785ED1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9360">
            <a:solidFill>
              <a:srgbClr val="c00000"/>
            </a:solidFill>
            <a:miter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ановою КМУ від 14.12.2016 р. № 974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тверджено підвищення посадових окладів педагогічних працівників навчальних закладів, які фінансуються за рахунок освітньої субвенції з державного бюджету місцевим бюджетам, починаючи з 1 січня 2017 р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C2C46-7C38-4004-BC87-0E802E6F031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468360" y="2781360"/>
          <a:ext cx="8207280" cy="3521160"/>
        </p:xfrm>
        <a:graphic>
          <a:graphicData uri="http://schemas.openxmlformats.org/drawingml/2006/table">
            <a:tbl>
              <a:tblPr/>
              <a:tblGrid>
                <a:gridCol w="3456000"/>
                <a:gridCol w="2374920"/>
                <a:gridCol w="2376360"/>
              </a:tblGrid>
              <a:tr h="8938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ерівні та педагогічні працівни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арифний розряд відповідно по Постанови КМУ від 30.08.2002 № 129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арифний розряд відповідно по Постанови КМУ від 14.12.2016 № 97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58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иректори ЗНЗ, ПТНЗ, міжкільних закладів, ВНЗ І-ІІ рівеі акредитаці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-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-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57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відувач (директор): ДНЗ, школи естетичного виховання, ПНЗ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-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-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11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чителі (усіх спеціальностей), викладачі, вихователі, вихователі-методисти, … методисти, практичні психологи, педагог-організатор, концертмейстер, соціальний педаго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-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-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c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офесійний розвиток та підвищення кваліфікації педагогічних і науково-педагогічних працівників</a:t>
            </a:r>
            <a:br>
              <a:rPr sz="2400"/>
            </a:b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Закону “Про освіту” 2017 р.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c00000"/>
            </a:solidFill>
            <a:miter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офесійний розвиток педагогічних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і науково-педагогічних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цівників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дбачає неперервне самовдосконалення та участь у програмах підвищення кваліфікації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агальна кількість академічних годин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підвищення кваліфікації педагогічного працівника </a:t>
            </a:r>
            <a:r>
              <a:rPr b="1" lang="uk-UA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продовж п’яти років не може бути меншою за 150 годин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 яких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вна кількість годин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ає бути обов’язково спрямована на вдосконалення знань, вмінь і практичних навичок у частині роботи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 дітьми з особливими освітніми потребами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C7774-825C-483D-894A-6A5321D8206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cc"/>
          </a:solidFill>
          <a:ln w="9360">
            <a:solidFill>
              <a:srgbClr val="c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ст МОНУ № 1/9-630 від 05.12.2014 р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cc"/>
          </a:solidFill>
          <a:ln w="9360">
            <a:solidFill>
              <a:srgbClr val="c00000"/>
            </a:solidFill>
            <a:miter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 неухильне дотримання принципів гарантування свободи педагогічної діяльності вчител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BB040-7CA6-4F1E-9D58-DDB790D18A4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457200" y="620280"/>
            <a:ext cx="8229600" cy="5505480"/>
          </a:xfrm>
          <a:prstGeom prst="rect">
            <a:avLst/>
          </a:prstGeom>
          <a:solidFill>
            <a:srgbClr val="ffffcc"/>
          </a:solidFill>
          <a:ln w="9360">
            <a:solidFill>
              <a:srgbClr val="c00000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тус шкільного бібліотекар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C5D44-9B93-44EF-A052-E5533C7D1CC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457200" y="549000"/>
            <a:ext cx="8229600" cy="5576760"/>
          </a:xfrm>
          <a:prstGeom prst="rect">
            <a:avLst/>
          </a:prstGeom>
          <a:solidFill>
            <a:srgbClr val="ffffcc"/>
          </a:solidFill>
          <a:ln w="9360">
            <a:solidFill>
              <a:srgbClr val="c00000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Бібліотекарі</a:t>
            </a:r>
            <a:r>
              <a:rPr b="1" lang="uk-UA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ідносяться </a:t>
            </a:r>
            <a:r>
              <a:rPr b="1" i="1" lang="uk-UA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 працівників культури</a:t>
            </a:r>
            <a:r>
              <a:rPr b="1" lang="uk-UA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а за відомчою належністю —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до працівників освіти</a:t>
            </a:r>
            <a:r>
              <a:rPr b="1" lang="uk-UA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 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ідповідно до </a:t>
            </a:r>
            <a:r>
              <a:rPr b="1" lang="uk-UA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ста Міністерства освіти і науки, молоді та спорту України</a:t>
            </a:r>
            <a:r>
              <a:rPr b="0" lang="uk-UA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Щодо </a:t>
            </a:r>
            <a:r>
              <a:rPr b="1" i="1" lang="uk-UA" sz="3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плати праці </a:t>
            </a:r>
            <a:r>
              <a:rPr b="1" i="1" lang="uk-UA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 </a:t>
            </a:r>
            <a:r>
              <a:rPr b="1" i="1" lang="uk-UA" sz="3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становлення розряду</a:t>
            </a:r>
            <a:r>
              <a:rPr b="1" i="1" lang="uk-UA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uk-UA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цівникам бібліотеки загальноосвітнього навчального закладу</a:t>
            </a:r>
            <a:r>
              <a:rPr b="1" i="1" lang="uk-UA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 </a:t>
            </a:r>
            <a:r>
              <a:rPr b="0" lang="uk-UA" sz="3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ід 24 жовтня 2011 р. </a:t>
            </a:r>
            <a:br>
              <a:rPr sz="3000"/>
            </a:br>
            <a:r>
              <a:rPr b="0" lang="uk-UA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№ 1/12-5765</a:t>
            </a:r>
            <a:r>
              <a:rPr b="1" lang="uk-UA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ід час встановлення розрядів бібліотечним працівникам </a:t>
            </a:r>
            <a:r>
              <a:rPr b="0" i="1" lang="uk-UA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стосовуються</a:t>
            </a:r>
            <a:r>
              <a:rPr b="0" lang="uk-UA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uk-UA" sz="30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кваліфікаційні вимоги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18EC1-4458-4670-9B34-6DE1C913B33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457200" y="549000"/>
            <a:ext cx="8229600" cy="5576760"/>
          </a:xfrm>
          <a:prstGeom prst="rect">
            <a:avLst/>
          </a:prstGeom>
          <a:solidFill>
            <a:srgbClr val="faf2d4"/>
          </a:solidFill>
          <a:ln w="9360">
            <a:solidFill>
              <a:srgbClr val="c00000"/>
            </a:solidFill>
            <a:miter/>
          </a:ln>
        </p:spPr>
        <p:txBody>
          <a:bodyPr anchor="t">
            <a:normAutofit fontScale="98000"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Укази Президента Україн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 Стратегію сталого розвитку «Україна – 2020»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№5/2015р. від 12.01.2015р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 Стратегію національно-патріотичного виховання дітей та молоді на 2016-2020 роки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№580/2015 від 13.10.2015р.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Постанови Кабінету міністрів Україн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 затвердження Положення про дошкільний навчальний заклад 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№305 від 12.03.2003р., зі змін. 29.07.2015 №530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 затвердження Положення про загальноосвітній навчальний заклад </a:t>
            </a:r>
            <a:r>
              <a:rPr b="0" i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№778 від 27.08.2010р., зі змін. 22.01.2014 №28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 затвердження переліку типів позашкільних  навчальних закладів і Положення про  позашкільний навчальний заклад </a:t>
            </a:r>
            <a:r>
              <a:rPr b="0" i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№433 від 06.05.2001р., зі змін. від 27.08.2010 №769 )</a:t>
            </a:r>
            <a:br>
              <a:rPr sz="2400"/>
            </a:br>
            <a:r>
              <a:rPr b="0" i="1" lang="uk-U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43B52-37BB-4637-A65A-AF51B20EDF9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457200" y="475920"/>
            <a:ext cx="8229600" cy="5832360"/>
          </a:xfrm>
          <a:prstGeom prst="rect">
            <a:avLst/>
          </a:prstGeom>
          <a:noFill/>
          <a:ln w="9360">
            <a:solidFill>
              <a:srgbClr val="c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ля провідного бібліотекаря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повна вища освіта відповідного напряму підготовки 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магістр, спеціаліст),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ж роботи за професією бібліотекаря І категорії не менше 2 років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ля бібліотекаря І категорії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на вища освіта відповідного напряму підготовки (магістр, спеціаліст): для магістра — без вимог до стажу роботи, для спеціаліста — стаж роботи за професією бібліотекаря II категорії не менше 2 років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ля бібліотекаря II категорії: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вна вища освіта відповідного напряму підготовки (спеціаліст), стаж роботи за професією бібліотекаря не менше 1 року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ля бібліотекаря: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на вища освіта відповідного напряму підготовки (спеціаліст) без вимог до стажу робот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F4407-8531-4794-8F43-F94C7B45389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9360">
            <a:solidFill>
              <a:srgbClr val="c00000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ядок </a:t>
            </a: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иплати доплати за вислугу років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цівникам державних і комунальних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бібліоте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  <a:ea typeface="Arial"/>
              </a:rPr>
              <a:t>(Постанова КМУ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ід 22 січня 2005 р. № 84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плата за вислугу років установлюється працівникам </a:t>
            </a:r>
            <a:br>
              <a:rPr sz="2000"/>
            </a:b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ржавних і комунальних бібліотек (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блічних, спеціальних та спеціалізованих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залежно від стажу роботи в такому розмірі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292b2c"/>
                </a:solidFill>
                <a:latin typeface="Times New Roman"/>
                <a:ea typeface="Times New Roman"/>
              </a:rPr>
              <a:t>2.    Доплата за вислугу років </a:t>
            </a:r>
            <a:r>
              <a:rPr b="1" lang="uk-UA" sz="2000" spc="-1" strike="noStrike">
                <a:solidFill>
                  <a:srgbClr val="292b2c"/>
                </a:solidFill>
                <a:latin typeface="Times New Roman"/>
                <a:ea typeface="Times New Roman"/>
              </a:rPr>
              <a:t>виплачується щомісяця </a:t>
            </a:r>
            <a:r>
              <a:rPr b="0" lang="uk-UA" sz="2000" spc="-1" strike="noStrike">
                <a:solidFill>
                  <a:srgbClr val="292b2c"/>
                </a:solidFill>
                <a:latin typeface="Times New Roman"/>
                <a:ea typeface="Times New Roman"/>
              </a:rPr>
              <a:t>працівникам державних і комунальних бібліотек, які провадять культурну, освітню, інформаційну, науково-дослідну, методичну діяльність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8F1D8-10AB-4AB8-9A40-D226CA93C01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755640" y="2852640"/>
          <a:ext cx="7632720" cy="1890720"/>
        </p:xfrm>
        <a:graphic>
          <a:graphicData uri="http://schemas.openxmlformats.org/drawingml/2006/table">
            <a:tbl>
              <a:tblPr/>
              <a:tblGrid>
                <a:gridCol w="2736720"/>
                <a:gridCol w="4896000"/>
              </a:tblGrid>
              <a:tr h="701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ж роботи 20 </a:t>
                      </a:r>
                      <a:br>
                        <a:rPr sz="2000"/>
                      </a:b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змір щомісячної доплати до посадового окладу (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 відсотках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89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над 3 рок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над 10 років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над 20 рокі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9360">
            <a:solidFill>
              <a:srgbClr val="c00000"/>
            </a:solidFill>
            <a:miter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ановою Кабінету Міністрів України від 30.09.2009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№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73 „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 підвищення заробітної плати працівникам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ібліотек”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 1 жовтня 2009 року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цівникам бібліотек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тановлено надбавку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особливі умови роботи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іксованому розмірі – 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 відсотків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адового оклад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ановою КМУ від 25.03.2014 р. № 89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есено зміни до п.1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станови КМУ «Про підвищення заробітної плати працівникам бібліотек» від 30.09.2009 р. № 1073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пер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тановлено, що 50% — це граничний розмір надбавки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і встановлюється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ін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ерівником установи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закладу, організації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межах фонду оплати праці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бто надбавка може бути і 10 %, і 35 %, але не більше 50 %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B6A4A-719C-4E85-99BC-F47A7AC4984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9360">
            <a:solidFill>
              <a:srgbClr val="c00000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uk-UA" sz="25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садові оклади бібліотекарів навчальних закладів </a:t>
            </a:r>
            <a:r>
              <a:rPr b="0" lang="uk-UA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тановлюються відповідно до наказу Міністерства культури і туризму України </a:t>
            </a:r>
            <a:r>
              <a:rPr b="0" i="1" lang="uk-UA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Про впорядкування умов оплати праці працівників культури на основі Єдиної тарифної сітки»</a:t>
            </a:r>
            <a:r>
              <a:rPr b="0" lang="uk-UA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uk-UA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ід 18 жовтня 2005 р. № 745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визначення </a:t>
            </a:r>
            <a:r>
              <a:rPr b="1" lang="uk-UA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арифного розряду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рібно керуватися 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датком № 3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 Наказу Міністерства культури і туризму України «Про внесення змін до наказу Міністерства культури і туризму України від 18.10.2005 р. № 745»  № 67 від 11.10.2007 р.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кільки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змір ТР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е значно коливатися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ідний бібліотекар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 9 по 12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категорії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 8 по 11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 категорії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 8 по 10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ібліотекар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—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 8 по 9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80B15-BB3D-4770-8D01-DA30E1021B8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9360">
            <a:solidFill>
              <a:srgbClr val="c00000"/>
            </a:solidFill>
            <a:miter/>
          </a:ln>
        </p:spPr>
        <p:txBody>
          <a:bodyPr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ановою Кабінету Міністрів України від 30 вересня 2009 р. № 1062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з 1 січня 2010 року </a:t>
            </a:r>
            <a:r>
              <a:rPr b="0" lang="uk-UA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роваджена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плата</a:t>
            </a:r>
            <a:r>
              <a:rPr b="0" lang="uk-UA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ацівникам бібліотек </a:t>
            </a:r>
            <a:r>
              <a:rPr b="1" lang="uk-UA" sz="3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опомоги на оздоровлення</a:t>
            </a:r>
            <a:r>
              <a:rPr b="1" lang="uk-UA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ід час щорічної відпустки </a:t>
            </a:r>
            <a:r>
              <a:rPr b="1" lang="uk-UA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розмірі посадового окладу </a:t>
            </a:r>
            <a:r>
              <a:rPr b="0" lang="uk-UA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тавка заробітної плати)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 </a:t>
            </a:r>
            <a:r>
              <a:rPr b="1" lang="uk-UA" sz="3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атеріальної допомоги для вирішення соціально-побутових питань </a:t>
            </a:r>
            <a:r>
              <a:rPr b="0" lang="uk-UA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розмірі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до одного посадового окладу</a:t>
            </a:r>
            <a:r>
              <a:rPr b="0" lang="uk-UA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тавка заробітної плати)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3B802-8D83-4540-AC8A-3F03971EF54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9360">
            <a:solidFill>
              <a:srgbClr val="c00000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ідповідно до 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пових штатних нормативів загальноосвітніх навчальних закладів</a:t>
            </a:r>
            <a:r>
              <a:rPr b="0" i="1" lang="uk-UA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uk-UA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тверджених </a:t>
            </a:r>
            <a:r>
              <a:rPr b="0" i="1" lang="uk-UA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казом МОНУ 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ід 6 грудня 2010 р. № 1205, 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ада </a:t>
            </a:r>
            <a:r>
              <a:rPr b="1" i="1" lang="uk-UA" sz="33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авідувача бібліотеки </a:t>
            </a:r>
            <a:r>
              <a:rPr b="0" lang="uk-UA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водитиметься за наявності у навчальному закладі 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3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1 і більше класів</a:t>
            </a:r>
            <a:r>
              <a:rPr b="1" i="1" lang="uk-UA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561C7-43FE-42F5-9B09-0160550D88A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9360">
            <a:solidFill>
              <a:srgbClr val="c00000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гідно із </a:t>
            </a:r>
            <a:r>
              <a:rPr b="1" lang="uk-UA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ичними рекомендаціями з питань формування штатів загальноосвітніх навчально-виховних закладів</a:t>
            </a:r>
            <a:r>
              <a:rPr b="0" lang="uk-UA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доведеними листом Міністерства освіти і науки України від 19.06.2001 р. № 1/9-234 зі змінами та доповненнями від 10.08.2001 р. № 1/9-282,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загальноосвітніх навчальних закладах з кількістю до </a:t>
            </a:r>
            <a:r>
              <a:rPr b="1" lang="uk-UA" sz="25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7 класів включно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посада бібліотекаря не передбачається</a:t>
            </a:r>
            <a:r>
              <a:rPr b="1" lang="uk-UA" sz="25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.</a:t>
            </a:r>
            <a:br>
              <a:rPr sz="2500"/>
            </a:br>
            <a:r>
              <a:rPr b="0" lang="uk-UA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му </a:t>
            </a:r>
            <a:r>
              <a:rPr b="1" lang="uk-UA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ов’язки завідування бібліотекою покладаються на одного із педагогічних чи інших працівників школи</a:t>
            </a:r>
            <a:r>
              <a:rPr b="0" lang="uk-UA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яким за виконання цієї роботи </a:t>
            </a:r>
            <a:r>
              <a:rPr b="1" i="1" lang="uk-UA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ійснюється </a:t>
            </a:r>
            <a:r>
              <a:rPr b="1" i="1" lang="uk-UA" sz="25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оплата в розмірі 10 відсотків </a:t>
            </a:r>
            <a:r>
              <a:rPr b="1" i="1" lang="uk-UA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вки заробітної плати </a:t>
            </a:r>
            <a:r>
              <a:rPr b="0" lang="uk-UA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осадового окладу). 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34A0F-BF3C-4290-BD23-90FE0E336BF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ложення “Про загальноосвітній навчальний заклад”</a:t>
            </a:r>
            <a:br>
              <a:rPr sz="2000"/>
            </a:br>
            <a:r>
              <a:rPr b="0" lang="uk-UA" sz="2000" spc="-1" strike="noStrike">
                <a:solidFill>
                  <a:srgbClr val="b55475"/>
                </a:solidFill>
                <a:latin typeface="Times New Roman"/>
                <a:ea typeface="Times New Roman"/>
              </a:rPr>
              <a:t>(затверджено Постановою КМУ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ід 27 серпня 2010 р. N 778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6840" y="1125000"/>
            <a:ext cx="3962520" cy="5504040"/>
          </a:xfrm>
          <a:prstGeom prst="rect">
            <a:avLst/>
          </a:prstGeom>
          <a:solidFill>
            <a:srgbClr val="ffffcc"/>
          </a:solidFill>
          <a:ln w="9360">
            <a:solidFill>
              <a:srgbClr val="c00000"/>
            </a:solidFill>
            <a:miter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. 74.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ні (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хованці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закладу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ють гарантоване державою </a:t>
            </a:r>
            <a:r>
              <a:rPr b="1" lang="ru-RU" sz="20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право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на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ступність і безоплатність повної загальної середньої освіти </a:t>
            </a:r>
            <a:br>
              <a:rPr sz="1600"/>
            </a:b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державному та комунальному закладі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бір певного закладу,  форми навчання,  профільного напряму, факультативів, спецкурсів, позакласних занять;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печні і нешкідливі умови навчання та праці;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истування навчально-виробничою,                  науковою,  матеріально-технічною, культурно-спортивною,  корекційно-відновною та лікувально-оздоровчою базою закладу;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648320" y="1125000"/>
            <a:ext cx="4114800" cy="5504040"/>
          </a:xfrm>
          <a:prstGeom prst="rect">
            <a:avLst/>
          </a:prstGeom>
          <a:solidFill>
            <a:srgbClr val="ffffcc"/>
          </a:solidFill>
          <a:ln w="9360">
            <a:solidFill>
              <a:srgbClr val="c00000"/>
            </a:solidFill>
            <a:miter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сть в    різних   видах   навчальної,   науково-практичної  діяльності, конференціях, олімпіадах, виставках, конкурсах тощо;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римання додаткових,  у  тому  числі   платних,   навчальних  послуг;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гляд результатів  оцінювання  навчальних досягнень з усіх предметів інваріантної та варіативної частини;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сть в роботі органів громадського самоврядування закладу;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сть в роботі добровільних самодіяльних об'єднань,  творчих студій, клубів, гуртків, груп за інтересами тощо;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агу людської    гідності,   вільне   вираження   поглядів, переконань;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хист від  будь-яких   форм   експлуатації,   психічного   і </a:t>
            </a:r>
            <a:br>
              <a:rPr sz="1500"/>
            </a:br>
            <a:r>
              <a:rPr b="0" lang="uk-UA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ізичного  насильства,  від дій педагогічних та інших працівників, які порушують їх права, принижують честь і гідність. </a:t>
            </a: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A8430-070A-47F0-BCA8-E4BEDB22C48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ложення “Про загальноосвітній навчальний заклад”</a:t>
            </a:r>
            <a:br>
              <a:rPr sz="2000"/>
            </a:br>
            <a:r>
              <a:rPr b="0" lang="uk-UA" sz="2000" spc="-1" strike="noStrike">
                <a:solidFill>
                  <a:srgbClr val="b55475"/>
                </a:solidFill>
                <a:latin typeface="Times New Roman"/>
                <a:ea typeface="Times New Roman"/>
              </a:rPr>
              <a:t>(затверджено Постановою КМУ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ід 27 серпня 2010 р. N 778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1125000"/>
            <a:ext cx="4114800" cy="5232600"/>
          </a:xfrm>
          <a:prstGeom prst="rect">
            <a:avLst/>
          </a:prstGeom>
          <a:solidFill>
            <a:srgbClr val="ffffcc"/>
          </a:solidFill>
          <a:ln w="9360">
            <a:solidFill>
              <a:srgbClr val="c00000"/>
            </a:solidFill>
            <a:miter/>
          </a:ln>
        </p:spPr>
        <p:txBody>
          <a:bodyPr anchor="t">
            <a:normAutofit fontScale="95000"/>
          </a:bodyPr>
          <a:p>
            <a:pPr marL="324000" indent="-324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. 75.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ні закладу </a:t>
            </a:r>
            <a:r>
              <a:rPr b="1" lang="ru-RU" sz="24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зобов'язані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4000" indent="-32400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володівати знаннями,  вміннями,  практичними   навичками   в </a:t>
            </a:r>
            <a:br>
              <a:rPr sz="1800"/>
            </a:b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сязі  не  меншому,  ніж визначено Державним стандартом загальної </a:t>
            </a:r>
            <a:br>
              <a:rPr sz="1800"/>
            </a:b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редньої освіти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4000" indent="-32400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ідвищувати свій загальний культурний рівень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4000" indent="-32400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ати участь у пошуковій та науковій діяльності, передбаченій навчальними   програмами   та   навчальним  планом  закладу,  його статутом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4000" indent="-32400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тримуватися вимог законодавства,  моральних,  етичних норм, поважати честь і гідність інших учнів та працівників; </a:t>
            </a:r>
            <a:br>
              <a:rPr sz="1600"/>
            </a:br>
            <a:r>
              <a:rPr b="1" lang="uk-UA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4000" indent="-3240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648320" y="1125000"/>
            <a:ext cx="4114800" cy="5232600"/>
          </a:xfrm>
          <a:prstGeom prst="rect">
            <a:avLst/>
          </a:prstGeom>
          <a:solidFill>
            <a:srgbClr val="ffffcc"/>
          </a:solidFill>
          <a:ln w="9360">
            <a:solidFill>
              <a:srgbClr val="c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конувати вимоги  педагогічних  та інших працівників закладу </a:t>
            </a:r>
            <a:br>
              <a:rPr sz="1800"/>
            </a:b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ідповідно до статуту та правил внутрішнього розпорядку закладу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ати участь у різних видах трудової діяльності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байливо ставитися до державного,  громадського і  особистого </a:t>
            </a:r>
            <a:br>
              <a:rPr sz="1800"/>
            </a:b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йна, майна інших учасників навчально-виховного процесу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тримуватися вимог  статуту,  правил внутрішнього розпорядку </a:t>
            </a:r>
            <a:br>
              <a:rPr sz="1800"/>
            </a:b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ладу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тримуватися </a:t>
            </a:r>
            <a:r>
              <a:rPr b="0" lang="uk-UA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авил особистої гігієни.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1800"/>
            </a:b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EAD2B-0E33-40D0-947A-8A10F3212D0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457200" y="333000"/>
            <a:ext cx="8229600" cy="5792760"/>
          </a:xfrm>
          <a:prstGeom prst="rect">
            <a:avLst/>
          </a:prstGeom>
          <a:ln w="0">
            <a:noFill/>
          </a:ln>
        </p:spPr>
      </p:pic>
      <p:grpSp>
        <p:nvGrpSpPr>
          <p:cNvPr id="176" name="Прямоугольник 3"/>
          <p:cNvGrpSpPr/>
          <p:nvPr/>
        </p:nvGrpSpPr>
        <p:grpSpPr>
          <a:xfrm>
            <a:off x="396720" y="262080"/>
            <a:ext cx="8350560" cy="5906880"/>
            <a:chOff x="396720" y="262080"/>
            <a:chExt cx="8350560" cy="5906880"/>
          </a:xfrm>
        </p:grpSpPr>
        <p:pic>
          <p:nvPicPr>
            <p:cNvPr id="177" name="Прямоугольник 3" descr=""/>
            <p:cNvPicPr/>
            <p:nvPr/>
          </p:nvPicPr>
          <p:blipFill>
            <a:blip r:embed="rId2"/>
            <a:stretch/>
          </p:blipFill>
          <p:spPr>
            <a:xfrm>
              <a:off x="396720" y="262080"/>
              <a:ext cx="8350560" cy="590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468360" y="333360"/>
              <a:ext cx="8207280" cy="575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6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п. 76.</a:t>
              </a:r>
              <a:r>
                <a:rPr b="0" lang="ru-RU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uk-UA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Учні закладу залучаються</a:t>
              </a:r>
              <a:r>
                <a:rPr b="0" lang="uk-UA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за їх згодою та  згодою  батьків або осіб,  які їх замінюють,  </a:t>
              </a:r>
              <a:r>
                <a:rPr b="1" lang="uk-UA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до самообслуговування,  різних видів </a:t>
              </a:r>
              <a:r>
                <a:rPr b="1" lang="uk-UA" sz="2600" spc="-1" strike="noStrike" u="sng">
                  <a:solidFill>
                    <a:srgbClr val="000000"/>
                  </a:solidFill>
                  <a:uFillTx/>
                  <a:latin typeface="Times New Roman"/>
                  <a:ea typeface="Times New Roman"/>
                </a:rPr>
                <a:t>суспільно  корисної  праці</a:t>
              </a:r>
              <a:r>
                <a:rPr b="0" lang="uk-UA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відповідно   до   статуту   і   правил внутрішнього   розпорядку  з  урахуванням  віку,  статі,  фізичних можливостей. </a:t>
              </a:r>
              <a:br>
                <a:rPr sz="2600"/>
              </a:b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6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п. 77. </a:t>
              </a:r>
              <a:r>
                <a:rPr b="1" lang="uk-UA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За  невиконання  учасниками  навчально-виховного  процесу своїх   обов'язків</a:t>
              </a:r>
              <a:r>
                <a:rPr b="0" lang="uk-UA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  порушення   статуту,   правил   внутрішнього розпорядку на  них  можуть  </a:t>
              </a:r>
              <a:r>
                <a:rPr b="1" lang="uk-UA" sz="2600" spc="-1" strike="noStrike" u="sng">
                  <a:solidFill>
                    <a:srgbClr val="000000"/>
                  </a:solidFill>
                  <a:uFillTx/>
                  <a:latin typeface="Times New Roman"/>
                  <a:ea typeface="Times New Roman"/>
                </a:rPr>
                <a:t>накладатися  стягнення  відповідно  до закону. </a:t>
              </a:r>
              <a:br>
                <a:rPr sz="2600"/>
              </a:b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1115E-75F1-49A6-A046-3324DA91FAE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468360" y="549000"/>
            <a:ext cx="8229600" cy="5616360"/>
          </a:xfrm>
          <a:prstGeom prst="rect">
            <a:avLst/>
          </a:prstGeom>
          <a:solidFill>
            <a:srgbClr val="faf2d4"/>
          </a:solidFill>
          <a:ln w="9360">
            <a:solidFill>
              <a:srgbClr val="c00000"/>
            </a:solidFill>
            <a:miter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uk-UA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uk-UA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uk-UA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 затвердження Порядку проведення ЗНО та моніторингу якості освіти  </a:t>
            </a:r>
            <a:r>
              <a:rPr b="0" i="1" lang="uk-UA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№1095 від 25.08.2004 у ред. від 08.07.2015 №533)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   Про затвердження Державного стандарту початкової загальної освіти  </a:t>
            </a:r>
            <a:r>
              <a:rPr b="0" i="1" lang="uk-UA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№462 від 20.04.2011)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 затвердження Державного стандарту базової і повної загальної середньої освіти  </a:t>
            </a:r>
            <a:r>
              <a:rPr b="0" i="1" lang="uk-UA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№ 1392 від 23.11.2011)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 затвердження Національної рамки кваліфікацій   </a:t>
            </a:r>
            <a:r>
              <a:rPr b="0" lang="uk-UA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uk-UA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№ 1341 від 23.11.2011 р</a:t>
            </a:r>
            <a:r>
              <a:rPr b="0" lang="uk-UA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)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оження про екстернат у загальноосвітніх навчальних закладах (</a:t>
            </a:r>
            <a:r>
              <a:rPr b="0" lang="uk-UA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каз МОНУ </a:t>
            </a:r>
            <a:r>
              <a:rPr b="0" i="1" lang="uk-UA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№ 369 від 13.03.17 року</a:t>
            </a:r>
            <a:r>
              <a:rPr b="1" lang="uk-UA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 затвердження Положення про інклюзивно-ресурсний центр 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uk-UA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ід 12.07.2017 № 545)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 внесення змін до Порядку організації інклюзивного навчання у загальноосвітніх навчальних закладах 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uk-UA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ід 09.08.2017 № 588)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600B1-BF80-43E9-919A-0774D65ECDB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457200" y="476280"/>
            <a:ext cx="8229600" cy="5649840"/>
          </a:xfrm>
          <a:prstGeom prst="rect">
            <a:avLst/>
          </a:prstGeom>
          <a:ln w="0">
            <a:noFill/>
          </a:ln>
        </p:spPr>
      </p:pic>
      <p:grpSp>
        <p:nvGrpSpPr>
          <p:cNvPr id="181" name="Прямоугольник 3"/>
          <p:cNvGrpSpPr/>
          <p:nvPr/>
        </p:nvGrpSpPr>
        <p:grpSpPr>
          <a:xfrm>
            <a:off x="396720" y="401760"/>
            <a:ext cx="8350560" cy="5767200"/>
            <a:chOff x="396720" y="401760"/>
            <a:chExt cx="8350560" cy="5767200"/>
          </a:xfrm>
        </p:grpSpPr>
        <p:pic>
          <p:nvPicPr>
            <p:cNvPr id="182" name="Прямоугольник 3" descr=""/>
            <p:cNvPicPr/>
            <p:nvPr/>
          </p:nvPicPr>
          <p:blipFill>
            <a:blip r:embed="rId2"/>
            <a:stretch/>
          </p:blipFill>
          <p:spPr>
            <a:xfrm>
              <a:off x="396720" y="401760"/>
              <a:ext cx="8350560" cy="576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"/>
            <p:cNvSpPr/>
            <p:nvPr/>
          </p:nvSpPr>
          <p:spPr>
            <a:xfrm>
              <a:off x="468360" y="476280"/>
              <a:ext cx="8207280" cy="561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п. 78. </a:t>
              </a:r>
              <a:r>
                <a:rPr b="1" i="1" lang="uk-UA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едагогічним  працівником</a:t>
              </a:r>
              <a:r>
                <a:rPr b="0" i="1" lang="uk-UA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</a:t>
              </a:r>
              <a:r>
                <a:rPr b="0" lang="uk-UA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овинна  бути </a:t>
              </a:r>
              <a:r>
                <a:rPr b="1" lang="uk-UA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особа з високими моральними  якостями,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яка  має  відповідну  педагогічну   освіту, </a:t>
              </a:r>
              <a:br>
                <a:rPr sz="2800"/>
              </a:br>
              <a:r>
                <a:rPr b="1" lang="uk-UA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належний     рівень     професійної     підготовки,     забезпечує результативність та якість своєї  роботи,  фізичний  та  психічний </a:t>
              </a:r>
              <a:br>
                <a:rPr sz="2800"/>
              </a:br>
              <a:r>
                <a:rPr b="1" lang="uk-UA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тан  здоров'я  якої  дає  змогу виконувати професійні обов'язки в </a:t>
              </a:r>
              <a:br>
                <a:rPr sz="2800"/>
              </a:br>
              <a:r>
                <a:rPr b="1" lang="uk-UA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навчальних закладах системи загальної середньої освіти</a:t>
              </a:r>
              <a:r>
                <a:rPr b="0" lang="uk-UA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1F96A-C067-44E4-A31D-2DACF4BA7CF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9360">
            <a:solidFill>
              <a:srgbClr val="c00000"/>
            </a:solidFill>
            <a:miter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едагогічним працівником повинна бут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а</a:t>
            </a: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 високими моральними якостями, яка має відповідну педагогічну освіту та/або професійну кваліфікацію педагогічного працівника,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ежний рівень професійної підготовки,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ійснює педагогічну діяльність,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безпечує результативність та якість своєї роботи,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ізичний та психічний стан здоров’я якої дозволяє виконувати професійні обов’язки в закладах системи загальної середньої освіти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таття 24. Педагогічні працівники  Закону «Про освіту», 2017)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31F9B-36FA-412B-970F-FB0F5D65AFC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457200" y="428760"/>
            <a:ext cx="8229600" cy="5697360"/>
          </a:xfrm>
          <a:prstGeom prst="rect">
            <a:avLst/>
          </a:prstGeom>
          <a:solidFill>
            <a:srgbClr val="ffffcc"/>
          </a:solidFill>
          <a:ln w="9360">
            <a:solidFill>
              <a:srgbClr val="c00000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. 87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дагогічні   працівники,   які   </a:t>
            </a:r>
            <a:r>
              <a:rPr b="1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атично  порушують </a:t>
            </a:r>
            <a:br>
              <a:rPr sz="3200"/>
            </a:b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тут,  правила внутрішнього  розпорядку  закладу,  не  виконують </a:t>
            </a:r>
            <a:br>
              <a:rPr sz="3200"/>
            </a:b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адових обов'язків,  умови трудового договору (контракту) </a:t>
            </a:r>
            <a:r>
              <a:rPr b="1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бо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а </a:t>
            </a:r>
            <a:br>
              <a:rPr sz="3200"/>
            </a:b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ультатами   атестації   не   відповідають   займаній    посаді, </a:t>
            </a:r>
            <a:br>
              <a:rPr sz="3200"/>
            </a:br>
            <a:r>
              <a:rPr b="1" lang="uk-UA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вільняються з роботи згідно із законодавством</a:t>
            </a: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.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51871-90F0-4BF3-A4CD-197B8D7825D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457200" y="1197000"/>
            <a:ext cx="8229600" cy="4929120"/>
          </a:xfrm>
          <a:prstGeom prst="rect">
            <a:avLst/>
          </a:prstGeom>
          <a:ln w="0">
            <a:noFill/>
          </a:ln>
        </p:spPr>
      </p:pic>
      <p:grpSp>
        <p:nvGrpSpPr>
          <p:cNvPr id="191" name="Прямоугольник 3"/>
          <p:cNvGrpSpPr/>
          <p:nvPr/>
        </p:nvGrpSpPr>
        <p:grpSpPr>
          <a:xfrm>
            <a:off x="396720" y="189000"/>
            <a:ext cx="8350560" cy="1011240"/>
            <a:chOff x="396720" y="189000"/>
            <a:chExt cx="8350560" cy="1011240"/>
          </a:xfrm>
        </p:grpSpPr>
        <p:pic>
          <p:nvPicPr>
            <p:cNvPr id="192" name="Прямоугольник 3" descr=""/>
            <p:cNvPicPr/>
            <p:nvPr/>
          </p:nvPicPr>
          <p:blipFill>
            <a:blip r:embed="rId2"/>
            <a:stretch/>
          </p:blipFill>
          <p:spPr>
            <a:xfrm>
              <a:off x="396720" y="189000"/>
              <a:ext cx="8350560" cy="101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3" name=""/>
            <p:cNvSpPr/>
            <p:nvPr/>
          </p:nvSpPr>
          <p:spPr>
            <a:xfrm>
              <a:off x="468360" y="260280"/>
              <a:ext cx="8207280" cy="86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п. 89. </a:t>
              </a: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Батьки учнів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та особи, які їх замінюють,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 u="sng">
                  <a:solidFill>
                    <a:srgbClr val="c00000"/>
                  </a:solidFill>
                  <a:uFillTx/>
                  <a:latin typeface="Times New Roman"/>
                  <a:ea typeface="Times New Roman"/>
                </a:rPr>
                <a:t>мають право</a:t>
              </a:r>
              <a:r>
                <a:rPr b="0" lang="ru-RU" sz="24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: </a:t>
              </a:r>
              <a:br>
                <a:rPr sz="2400"/>
              </a:b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" name="Прямоугольник 4"/>
          <p:cNvGrpSpPr/>
          <p:nvPr/>
        </p:nvGrpSpPr>
        <p:grpSpPr>
          <a:xfrm>
            <a:off x="396720" y="1195560"/>
            <a:ext cx="8350560" cy="4973400"/>
            <a:chOff x="396720" y="1195560"/>
            <a:chExt cx="8350560" cy="4973400"/>
          </a:xfrm>
        </p:grpSpPr>
        <p:pic>
          <p:nvPicPr>
            <p:cNvPr id="195" name="Прямоугольник 4" descr=""/>
            <p:cNvPicPr/>
            <p:nvPr/>
          </p:nvPicPr>
          <p:blipFill>
            <a:blip r:embed="rId3"/>
            <a:stretch/>
          </p:blipFill>
          <p:spPr>
            <a:xfrm>
              <a:off x="396720" y="1195560"/>
              <a:ext cx="8350560" cy="497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468360" y="1268280"/>
              <a:ext cx="8207280" cy="482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uk-UA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обирати навчальний  заклад  </a:t>
              </a:r>
              <a:r>
                <a:rPr b="0" lang="uk-UA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та  </a:t>
              </a:r>
              <a:r>
                <a:rPr b="1" lang="uk-UA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форми  навчання  </a:t>
              </a:r>
              <a:r>
                <a:rPr b="0" lang="uk-UA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і  виховання </a:t>
              </a:r>
              <a:br>
                <a:rPr sz="2000"/>
              </a:br>
              <a:r>
                <a:rPr b="0" lang="uk-UA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дітей;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uk-UA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творювати батьківські громадські організації </a:t>
              </a:r>
              <a:r>
                <a:rPr b="0" lang="uk-UA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та брати участь </a:t>
              </a:r>
              <a:br>
                <a:rPr sz="2000"/>
              </a:br>
              <a:r>
                <a:rPr b="0" lang="uk-UA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в їх діяльності, обирати і бути обраними до батьківських комітетів </a:t>
              </a:r>
              <a:br>
                <a:rPr sz="2000"/>
              </a:br>
              <a:r>
                <a:rPr b="0" lang="uk-UA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та органів громадського самоврядування;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uk-UA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звертатися до органів управління освітою</a:t>
              </a:r>
              <a:r>
                <a:rPr b="0" lang="uk-UA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керівника закладу і </a:t>
              </a:r>
              <a:br>
                <a:rPr sz="2000"/>
              </a:br>
              <a:r>
                <a:rPr b="0" lang="uk-UA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органів  громадського самоврядування з питань навчання,  виховання </a:t>
              </a:r>
              <a:br>
                <a:rPr sz="2000"/>
              </a:br>
              <a:r>
                <a:rPr b="0" lang="uk-UA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дітей;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uk-UA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риймати рішення про участь дитини  </a:t>
              </a:r>
              <a:r>
                <a:rPr b="0" lang="uk-UA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в  науковій,  спортивній, </a:t>
              </a:r>
              <a:br>
                <a:rPr sz="2000"/>
              </a:br>
              <a:r>
                <a:rPr b="0" lang="uk-UA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трудовій, пошуковій та інноваційній діяльності закладу;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uk-UA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брати участь у заходах</a:t>
              </a:r>
              <a:r>
                <a:rPr b="0" lang="uk-UA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спрямованих на поліпшення організації </a:t>
              </a:r>
              <a:br>
                <a:rPr sz="2000"/>
              </a:br>
              <a:r>
                <a:rPr b="0" lang="uk-UA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навчально-виховного  процесу  та  зміцнення  матеріально-технічної </a:t>
              </a:r>
              <a:br>
                <a:rPr sz="2000"/>
              </a:br>
              <a:r>
                <a:rPr b="0" lang="uk-UA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бази закладу;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uk-UA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на захист  законних  інтересів  дітей  </a:t>
              </a:r>
              <a:r>
                <a:rPr b="0" lang="uk-UA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в органах громадського </a:t>
              </a:r>
              <a:br>
                <a:rPr sz="2000"/>
              </a:br>
              <a:r>
                <a:rPr b="0" lang="uk-UA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амоврядування  закладу  та  у  відповідних   державних,   судових </a:t>
              </a:r>
              <a:br>
                <a:rPr sz="2000"/>
              </a:br>
              <a:r>
                <a:rPr b="0" lang="uk-UA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органах. </a:t>
              </a:r>
              <a:br>
                <a:rPr sz="2000"/>
              </a:br>
              <a:r>
                <a:rPr b="0" lang="uk-UA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" name="Номер слайда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9FD0B-36F3-430E-9A20-1FB6EF1B689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grpSp>
        <p:nvGrpSpPr>
          <p:cNvPr id="200" name="Прямоугольник 3"/>
          <p:cNvGrpSpPr/>
          <p:nvPr/>
        </p:nvGrpSpPr>
        <p:grpSpPr>
          <a:xfrm>
            <a:off x="396720" y="189000"/>
            <a:ext cx="8350560" cy="1298520"/>
            <a:chOff x="396720" y="189000"/>
            <a:chExt cx="8350560" cy="1298520"/>
          </a:xfrm>
        </p:grpSpPr>
        <p:pic>
          <p:nvPicPr>
            <p:cNvPr id="201" name="Прямоугольник 3" descr=""/>
            <p:cNvPicPr/>
            <p:nvPr/>
          </p:nvPicPr>
          <p:blipFill>
            <a:blip r:embed="rId2"/>
            <a:stretch/>
          </p:blipFill>
          <p:spPr>
            <a:xfrm>
              <a:off x="396720" y="189000"/>
              <a:ext cx="8350560" cy="129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" name=""/>
            <p:cNvSpPr/>
            <p:nvPr/>
          </p:nvSpPr>
          <p:spPr>
            <a:xfrm>
              <a:off x="468360" y="260280"/>
              <a:ext cx="8207280" cy="115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п.  90. </a:t>
              </a: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Батьки та особи</a:t>
              </a: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 які їх замінюють,  є відповідальними за </a:t>
              </a:r>
              <a:br>
                <a:rPr sz="2000"/>
              </a:b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здобуття дітьми повної загальної середньої освіти,  їх виховання і </a:t>
              </a:r>
              <a:br>
                <a:rPr sz="2000"/>
              </a:br>
              <a:r>
                <a:rPr b="1" lang="ru-RU" sz="2400" spc="-1" strike="noStrike" u="sng">
                  <a:solidFill>
                    <a:srgbClr val="c00000"/>
                  </a:solidFill>
                  <a:uFillTx/>
                  <a:latin typeface="Times New Roman"/>
                  <a:ea typeface="Times New Roman"/>
                </a:rPr>
                <a:t>зобов'язані: </a:t>
              </a:r>
              <a:br>
                <a:rPr sz="2000"/>
              </a:b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" name="Прямоугольник 4"/>
          <p:cNvGrpSpPr/>
          <p:nvPr/>
        </p:nvGrpSpPr>
        <p:grpSpPr>
          <a:xfrm>
            <a:off x="469800" y="1554120"/>
            <a:ext cx="8277480" cy="4614840"/>
            <a:chOff x="469800" y="1554120"/>
            <a:chExt cx="8277480" cy="4614840"/>
          </a:xfrm>
        </p:grpSpPr>
        <p:pic>
          <p:nvPicPr>
            <p:cNvPr id="204" name="Прямоугольник 4" descr=""/>
            <p:cNvPicPr/>
            <p:nvPr/>
          </p:nvPicPr>
          <p:blipFill>
            <a:blip r:embed="rId3"/>
            <a:stretch/>
          </p:blipFill>
          <p:spPr>
            <a:xfrm>
              <a:off x="469800" y="1554120"/>
              <a:ext cx="8277480" cy="461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5" name=""/>
            <p:cNvSpPr/>
            <p:nvPr/>
          </p:nvSpPr>
          <p:spPr>
            <a:xfrm>
              <a:off x="539640" y="1628640"/>
              <a:ext cx="8136000" cy="446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uk-UA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творювати умови   </a:t>
              </a:r>
              <a:r>
                <a:rPr b="0" lang="uk-UA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для   здобуття  дитиною  повної  загальної середньої освіти за будь-якою формою навчання;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uk-UA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забезпечувати дотримання дітьми вимог </a:t>
              </a:r>
              <a:r>
                <a:rPr b="0" lang="uk-UA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татуту закладу;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uk-UA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оважати честь і гідність дитини </a:t>
              </a:r>
              <a:r>
                <a:rPr b="0" lang="uk-UA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та працівників закладу;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uk-UA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остійно дбати </a:t>
              </a:r>
              <a:r>
                <a:rPr b="0" lang="uk-UA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ро фізичне здоров'я,  психічний  стан  дітей, створювати належні умови для розвитку їх природних здібностей;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uk-UA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виховувати працелюбність</a:t>
              </a:r>
              <a:r>
                <a:rPr b="0" lang="uk-UA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   почуття    доброти,   милосердя, шанобливе ставлення до Вітчизни,  сім'ї,  державної та рідної мов; повагу до національної історії, культури, цінностей інших народів;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uk-UA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виховувати у дітей повагу </a:t>
              </a:r>
              <a:r>
                <a:rPr b="0" lang="uk-UA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до законів,  прав,  основних свобод людини.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2200"/>
              </a:b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6" name="Номер слайда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1FB91-6E18-4085-95EF-F1F07123F7A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94920" y="274320"/>
            <a:ext cx="8497800" cy="1353960"/>
          </a:xfrm>
          <a:prstGeom prst="rect">
            <a:avLst/>
          </a:prstGeom>
          <a:solidFill>
            <a:srgbClr val="fefac9"/>
          </a:solidFill>
          <a:ln w="9360">
            <a:solidFill>
              <a:srgbClr val="b55475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міни до Типового положення </a:t>
            </a:r>
            <a:br>
              <a:rPr sz="3200"/>
            </a:br>
            <a:r>
              <a:rPr b="1" lang="uk-UA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про атестацію педагогічних працівників </a:t>
            </a:r>
            <a:br>
              <a:rPr sz="3200"/>
            </a:br>
            <a:r>
              <a:rPr b="1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наказ МОНУ від 08.08.2013 р.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94920" y="1773000"/>
            <a:ext cx="8497800" cy="4352760"/>
          </a:xfrm>
          <a:prstGeom prst="rect">
            <a:avLst/>
          </a:prstGeom>
          <a:solidFill>
            <a:srgbClr val="fefac9"/>
          </a:solidFill>
          <a:ln w="9360">
            <a:solidFill>
              <a:srgbClr val="b55475"/>
            </a:solidFill>
            <a:miter/>
          </a:ln>
        </p:spPr>
        <p:txBody>
          <a:bodyPr anchor="t">
            <a:normAutofit/>
          </a:bodyPr>
          <a:p>
            <a:pPr marL="341280" indent="-341280"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й наказ набирає чинності </a:t>
            </a:r>
            <a:r>
              <a:rPr b="1" lang="uk-UA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 30 вересня 2013 року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ctr">
              <a:lnSpc>
                <a:spcPct val="100000"/>
              </a:lnSpc>
              <a:buClr>
                <a:srgbClr val="c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о  1  вересня 2017 року  </a:t>
            </a:r>
            <a:r>
              <a:rPr b="1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безпечити   організацію   та   проведення атестації керівників навчальних закладів,  призначених на посади до набрання чинності цим наказом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FFE45-585B-46A8-ABDA-C2F68B63902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457200" y="476280"/>
            <a:ext cx="8229600" cy="5649840"/>
          </a:xfrm>
          <a:prstGeom prst="rect">
            <a:avLst/>
          </a:prstGeom>
          <a:solidFill>
            <a:srgbClr val="fefac9"/>
          </a:solidFill>
          <a:ln w="9360">
            <a:solidFill>
              <a:srgbClr val="b55475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тестаційною комісією враховуються</a:t>
            </a: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івень її  професійної  освіти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ж  роботи  на  педагогічних,  науково-педагогічних  та керівних посадах у  сфері  освіти,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олодіння  інформаційно-комунікаційними технологіями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фесійні знання та навички, набуті до призначення на посад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B5214-DBC8-4164-A05C-4C5F875C52B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9360">
            <a:solidFill>
              <a:srgbClr val="b55475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а  результатами  атестації керівних кадрів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вчальних та інших закладів,  а також  осіб,  які  претендують  на  зайняття посади  керівників  загальноосвітніх  та  позашкільних  навчальних закладів, атестаційні комісії </a:t>
            </a:r>
            <a:r>
              <a:rPr b="1" lang="uk-UA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ухвалюють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uk-UA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акі рішення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ерівник (заступник керівника) відповідає займаній посаді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ерівник (заступник керівника) відповідає займаній посаді  за умови виконання ним заходів, визначених атестаційною комісією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ерівник (заступник керівника) </a:t>
            </a:r>
            <a:r>
              <a:rPr b="1" lang="uk-UA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не відповідає займаній посаді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рекомендувати для призначення на посаду керівника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рекомендувати для зарахування до кадрового резерву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61E06-DED4-4B31-AE22-C42313153A0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9360">
            <a:solidFill>
              <a:srgbClr val="c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он «Про освіту», стаття 24 «Педагогічні працівники», ч. 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9360">
            <a:solidFill>
              <a:srgbClr val="c00000"/>
            </a:solidFill>
            <a:miter/>
          </a:ln>
        </p:spPr>
        <p:txBody>
          <a:bodyPr anchor="t">
            <a:normAutofit fontScale="91000"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ерівник державного, комунального закладу загальної середньої освіти </a:t>
            </a:r>
            <a:r>
              <a:rPr b="1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значається на посаду за результатами конкурсного відбору строком </a:t>
            </a:r>
            <a:r>
              <a:rPr b="1" lang="uk-UA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на шість років</a:t>
            </a:r>
            <a:r>
              <a:rPr b="1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дна і та сама особа не може бути керівником </a:t>
            </a:r>
            <a:r>
              <a:rPr b="1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ідповідного закладу загальної середньої освіти </a:t>
            </a:r>
            <a:r>
              <a:rPr b="1" lang="uk-UA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більше ніж два строки підряд </a:t>
            </a:r>
            <a:r>
              <a:rPr b="1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до першого строку включається дворічний строк перебування на посаді керівника закладу загальної середньої освіти, призначеного вперше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аступник керівника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uk-UA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едагогічні та інші працівники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ладу загальної середньої освіти </a:t>
            </a:r>
            <a:r>
              <a:rPr b="1" lang="uk-UA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изначаються на посади та звільняються з посад керівником цього закладу.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ерівник закладу загальної середньої освіти має право оголосити конкурс на вакантну посад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FF524-4729-486C-9CE1-8FAE1F9EEAF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2349000"/>
            <a:ext cx="8229600" cy="3776760"/>
          </a:xfrm>
          <a:prstGeom prst="rect">
            <a:avLst/>
          </a:prstGeom>
          <a:noFill/>
          <a:ln w="9360">
            <a:solidFill>
              <a:srgbClr val="c00000"/>
            </a:solidFill>
            <a:miter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тестація проводиться не частіше ніж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ин раз на три рок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тестаційна комісія на підставі всіх даних дає одну з таких оцінок професійної кваліфікації і ділових якостей працівника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ідповідає займаній посаді або виконуваній роботі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відповідає займаній посаді або виконуваній роботі, </a:t>
            </a:r>
            <a:br>
              <a:rPr sz="2400"/>
            </a:b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комендовано направити на навчання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відповідає займаній посаді або виконуваній роботі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9" name="Прямоугольник 3"/>
          <p:cNvGrpSpPr/>
          <p:nvPr/>
        </p:nvGrpSpPr>
        <p:grpSpPr>
          <a:xfrm>
            <a:off x="353880" y="139680"/>
            <a:ext cx="8436240" cy="2212920"/>
            <a:chOff x="353880" y="139680"/>
            <a:chExt cx="8436240" cy="2212920"/>
          </a:xfrm>
        </p:grpSpPr>
        <p:pic>
          <p:nvPicPr>
            <p:cNvPr id="220" name="Прямоугольник 3" descr=""/>
            <p:cNvPicPr/>
            <p:nvPr/>
          </p:nvPicPr>
          <p:blipFill>
            <a:blip r:embed="rId1"/>
            <a:stretch/>
          </p:blipFill>
          <p:spPr>
            <a:xfrm>
              <a:off x="353880" y="139680"/>
              <a:ext cx="8436240" cy="221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" name=""/>
            <p:cNvSpPr/>
            <p:nvPr/>
          </p:nvSpPr>
          <p:spPr>
            <a:xfrm>
              <a:off x="428760" y="214200"/>
              <a:ext cx="8286480" cy="20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4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Положення </a:t>
              </a:r>
              <a:br>
                <a:rPr sz="2400"/>
              </a:br>
              <a:r>
                <a:rPr b="1" lang="uk-UA" sz="24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про проведення атестації працівників підприємств, установ, організацій та закладів галузі культури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Наказ МКТУ від </a:t>
              </a:r>
              <a:r>
                <a:rPr b="0" lang="uk-UA" sz="2000" spc="-1" strike="noStrike">
                  <a:solidFill>
                    <a:srgbClr val="000000"/>
                  </a:solidFill>
                  <a:latin typeface="Calibri"/>
                </a:rPr>
                <a:t>16.07.2007 N 44</a:t>
              </a:r>
              <a:r>
                <a:rPr b="1" lang="uk-UA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2" name="Номер слайда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AC16D-6466-49D3-9D24-7ED8F6F818D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solidFill>
            <a:srgbClr val="faf2d4"/>
          </a:solidFill>
          <a:ln w="9360">
            <a:solidFill>
              <a:srgbClr val="b55475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uk-UA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аціональна рамка кваліфікацій України </a:t>
            </a:r>
            <a:br>
              <a:rPr sz="2800"/>
            </a:b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хвалена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ановою КМУ № 1341 від 23.11.2011 р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)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285840" y="1214280"/>
            <a:ext cx="8572320" cy="5072400"/>
          </a:xfrm>
          <a:prstGeom prst="rect">
            <a:avLst/>
          </a:prstGeom>
          <a:solidFill>
            <a:srgbClr val="faf2d4"/>
          </a:solidFill>
          <a:ln w="9360">
            <a:solidFill>
              <a:srgbClr val="b55475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аціональна рамка кваліфікацій (НРК) 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це системний і структурований опис кваліфікацій, освітньо-кваліфікаційних рівнів, кваліфікаційних стандартів різних рівнів і типів, встановлених на основі визначеного законом набору критеріїв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 основі НРК лежать професійні стандарти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офесійний стандарт 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це багатофункціональний нормативний документ, який в межах конкретного виду економічної діяльності </a:t>
            </a:r>
            <a:r>
              <a:rPr b="1" lang="uk-UA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изначає вимоги до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місту трудової діяльності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 умов її здійснення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валіфікації працівника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описаної в термінах знань, умінь, комунікацій, рівня автономності та відповідальності, компетенцій, потрібних для здійснення трудових функцій, відповідних конкретному заняттю на ринку праці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хової освіти та навчання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що є необхідними для відповідності даної кваліфікації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60408-5643-44BF-80E1-B66A8B7E92D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9360">
            <a:solidFill>
              <a:srgbClr val="c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uk-UA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тестація закладів освіти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9360">
            <a:solidFill>
              <a:srgbClr val="c00000"/>
            </a:solidFill>
            <a:miter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Згідно з Законом України “Про освіту”  2017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з переліку повноважень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ідповідних місцевих органів управління </a:t>
            </a:r>
            <a:r>
              <a:rPr b="1" lang="uk-UA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иключені повноваження на проведення атестації відповідних закладів освіти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тестація закладів освіти 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же не належить до повноважень відповідних органів управління і </a:t>
            </a:r>
            <a:r>
              <a:rPr b="1" lang="uk-UA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е існує як форма державного нагляду (контролю)</a:t>
            </a:r>
            <a:r>
              <a:rPr b="0" lang="uk-UA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 інструмент забезпечення якості освіти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8B752-3F73-4AA3-AE72-C532116837D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 Black"/>
              </a:rPr>
              <a:t>Дякую за увагу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solidFill>
            <a:srgbClr val="faf2d4"/>
          </a:solidFill>
          <a:ln w="9360">
            <a:solidFill>
              <a:srgbClr val="c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он України </a:t>
            </a:r>
            <a:br>
              <a:rPr sz="2400"/>
            </a:br>
            <a:r>
              <a:rPr b="1" lang="uk-UA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“Про засади державної мовної політики” </a:t>
            </a:r>
            <a:br>
              <a:rPr sz="2400"/>
            </a:b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№ 5029-VI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від 05.06.2012 р.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285560"/>
            <a:ext cx="8229600" cy="4840200"/>
          </a:xfrm>
          <a:prstGeom prst="rect">
            <a:avLst/>
          </a:prstGeom>
          <a:solidFill>
            <a:srgbClr val="faf2d4"/>
          </a:solidFill>
          <a:ln w="9360">
            <a:solidFill>
              <a:srgbClr val="c00000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ття 3. Право мовного самовизначенн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 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жен має право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ільно визначати мову, яку вважає рідною, і 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бирати мову спілкування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а також визнавати себе двомовним чи багатомовним і змінювати свої мовні уподобанн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 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жен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залежно від етнічного походження, національно-культурної самоідентифікації, місця проживання, релігійних переконань 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є право вільно користуватися будь-якою мовою у суспільному та приватному житті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вивчати і підтримувати будь-яку мову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ття 5. Цілі та принципи державної мовної політик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Державна мовна політика України базується на </a:t>
            </a:r>
            <a:r>
              <a:rPr b="1" lang="uk-UA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изнанні і всебічному розвитку української мови як державної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і гарантуванні 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ільного розвитку регіональних мов або мов меншин, інших мов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а також права мовного самовизначення і мовних уподобань кожної людин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D61A0-8FC8-409F-9E0E-10374197445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solidFill>
            <a:srgbClr val="fdedda"/>
          </a:solidFill>
          <a:ln w="9360">
            <a:solidFill>
              <a:srgbClr val="c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Щодо застосування державної мови</a:t>
            </a:r>
            <a:br>
              <a:rPr sz="3200"/>
            </a:b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uk-UA" sz="2000" spc="-1" strike="noStrike">
                <a:solidFill>
                  <a:srgbClr val="000000"/>
                </a:solidFill>
                <a:latin typeface="Calibri"/>
              </a:rPr>
              <a:t>Лист МОН № 1/9-542 від 07.10.16 рок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br>
              <a:rPr sz="3200"/>
            </a:br>
            <a:br>
              <a:rPr sz="32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solidFill>
            <a:srgbClr val="fdedda"/>
          </a:solidFill>
          <a:ln w="9360">
            <a:solidFill>
              <a:srgbClr val="c00000"/>
            </a:solidFill>
            <a:miter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У робочий час 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навчальних закладах з навчанням українською мовою </a:t>
            </a:r>
            <a:r>
              <a:rPr b="1" lang="uk-UA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ауково-педагогічними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uk-UA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едагогічними працівниками 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 іншим персоналом використовується українська мова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навчальних закладах з навчанням мовами національних меншин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uk-UA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ряд з українською мовою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також </a:t>
            </a:r>
            <a:r>
              <a:rPr b="1" lang="uk-UA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ова, якою здійснюється навчально-виховний процес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цьому закладі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CE662-5348-47BA-938C-4EF3756C9EA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9360">
            <a:solidFill>
              <a:srgbClr val="c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lang="uk-UA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ава педагогічних та науково-педагогічних працівників  </a:t>
            </a:r>
            <a:br>
              <a:rPr sz="2400"/>
            </a:b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Закон “Про освіту” 2017)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052640"/>
            <a:ext cx="8229600" cy="5256000"/>
          </a:xfrm>
          <a:prstGeom prst="rect">
            <a:avLst/>
          </a:prstGeom>
          <a:noFill/>
          <a:ln w="9360">
            <a:solidFill>
              <a:srgbClr val="c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c00000"/>
                </a:solidFill>
                <a:latin typeface="Arial"/>
                <a:ea typeface="Arial"/>
              </a:rPr>
              <a:t>право на академічну свободу</a:t>
            </a: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включаючи свободу викладання, свободу від втручання в педагогічну, науково-педагогічну та наукову діяльність, вільний вибір форм, методів і засобів навчання, що відповідають освітній програмі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оступ до інформаційних ресурсів і комунікацій</a:t>
            </a: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що використовуються в освітньому процесі та науковій діяльності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безоплатне користування матеріально-технічними ресурсами навчального закладу </a:t>
            </a: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здійснення освітньої та наукової діяльності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едагогічну ініціативу</a:t>
            </a: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розроблення та впровадження авторських освітніх методик і технологій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ахист професійної честі, гідності</a:t>
            </a:r>
            <a:r>
              <a:rPr b="1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індивідуальну освітню діяльність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довжену оплачувану відпустку</a:t>
            </a: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ержання службового житла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ідвищення кваліфікації, перепідготовку педагогічних працівників</a:t>
            </a: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ільний вибір освітніх програм, форм навчання, навчальних закладів, установ і організацій, що здійснюють підвищення кваліфікації </a:t>
            </a: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і перепідготовку педагогічних працівників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c00000"/>
                </a:solidFill>
                <a:latin typeface="Arial"/>
                <a:ea typeface="Arial"/>
              </a:rPr>
              <a:t>творчу відпустку терміном до одного року </a:t>
            </a:r>
            <a:r>
              <a:rPr b="1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частіше одного разу на 10 років із зарахуванням до загального і спеціального трудового стажу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93E1C-7581-4037-9F86-9ACE13E52BB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9T09:38:20Z</dcterms:created>
  <dc:creator>MARINA</dc:creator>
  <dc:description/>
  <dc:language>en-US</dc:language>
  <cp:lastModifiedBy>Кафедра Управления</cp:lastModifiedBy>
  <dcterms:modified xsi:type="dcterms:W3CDTF">2017-11-06T08:02:52Z</dcterms:modified>
  <cp:revision>488</cp:revision>
  <dc:subject/>
  <dc:title>Слайд 1</dc:title>
</cp:coreProperties>
</file>