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1774-03FF-4C9F-87D7-70797335A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4B4C-9181-47C0-9474-209FD23B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4615-576B-416D-9085-A1FF4E4A5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8739-8C10-4320-8CE5-CFDDF6ACE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5F9B-806C-4655-9809-134F2669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50BB-FE83-4AAE-92B0-F7FFCAED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36F7-5305-4238-9C46-D59B5C11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D428-625C-48D7-8257-121CF1FC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A35B-65DD-4C2C-BB29-5293E1C5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48A0-8DBF-4049-B2A1-5F2FD366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7470-E8D3-4E02-9134-717F7D0A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4885-5959-472A-8A1A-168F6341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CADA-77AA-43D3-AC71-0FA255ABE97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D3A9-75FF-46DC-9525-D0039FCA36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3024000"/>
          </a:xfrm>
          <a:prstGeom prst="rect">
            <a:avLst/>
          </a:prstGeom>
          <a:solidFill>
            <a:srgbClr val="faf2d4"/>
          </a:solidFill>
          <a:ln w="9360">
            <a:solidFill>
              <a:srgbClr val="93540a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о-правова компетентність бібліотекаря </a:t>
            </a:r>
            <a:br>
              <a:rPr sz="4800"/>
            </a:b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ї української школ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76360" y="4292640"/>
            <a:ext cx="53672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Лекція-презентаці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Times New Roman"/>
                <a:ea typeface="Tahoma"/>
              </a:rPr>
              <a:t>Смирнової М.Є.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ahoma"/>
              </a:rPr>
              <a:t>завідувача кафедри соціально-гуманітарної освіти, кандидата педагогічних нау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af2d4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узева Концепція розвитку неперервної пед. освіти.doc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вердже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з Міністерства освіти і науки Україн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 серпня  2013 р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№ 117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C951-3835-4899-B6F2-A435A56FA1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28760" y="1642680"/>
            <a:ext cx="8229600" cy="47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5D64-BE5A-45EA-94F4-7E7BB03BBF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357120" y="260280"/>
            <a:ext cx="8472600" cy="647640"/>
          </a:xfrm>
          <a:prstGeom prst="rect">
            <a:avLst/>
          </a:prstGeom>
          <a:solidFill>
            <a:srgbClr val="fefac9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ов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’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зки педагогічних  та науково-педагогічних працівни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357120" y="907920"/>
            <a:ext cx="8472600" cy="378000"/>
          </a:xfrm>
          <a:prstGeom prst="rect">
            <a:avLst/>
          </a:prstGeom>
          <a:solidFill>
            <a:srgbClr val="fefac9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он «Про освіту» 2017 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8"/>
          <p:cNvSpPr/>
          <p:nvPr/>
        </p:nvSpPr>
        <p:spPr>
          <a:xfrm>
            <a:off x="357120" y="1413000"/>
            <a:ext cx="8472600" cy="5016240"/>
          </a:xfrm>
          <a:prstGeom prst="rect">
            <a:avLst/>
          </a:prstGeom>
          <a:solidFill>
            <a:srgbClr val="fefac9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отримуватися принципу академічної доброчесності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забезпечувати його реалізацію в освітньому та науковому процес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ійно підвищувати професійний рівень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едагогічну майстерність, загальну ерудиці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магати здобувачам освіти засвоювати освітні програми на рівні обов'язкових вимог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до змісту, рівня та обсягу освіти, сприяти розвитку їхніх здіб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отримуватися педагогічної етики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важати гідність дитини, учня, студент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ищати дітей, молодь від будь-яких форм фізичного насильств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орального і психологічного тиску та дискримінації за будь-якою ознако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адемічна доброчесність</a:t>
            </a:r>
            <a:r>
              <a:rPr b="0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 </a:t>
            </a:r>
            <a:r>
              <a:rPr b="1" i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купність принципів, правил поведінки учасників освітнього процесу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прямованих на формування самостійної і відповідальної особистості, спроможної вирішувати завдання відповідно до освітнього рівня з дотриманням норм права та суспільної моралі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E06D-345D-48E9-A686-48E041ECAF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ушенням академічної доброчесності вважаєтьс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Arial"/>
                <a:ea typeface="Arial"/>
              </a:rPr>
              <a:t>академічний плагіат</a:t>
            </a:r>
            <a:r>
              <a:rPr b="0" lang="uk-UA" sz="16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- оприлюднення (частково або повністю) наукових (творчих) результатів, отриманих іншими особами, як результатів власного дослідження (творчості) та/або відтворення опублікованих текстів (оприлюднених творів мистецтва) інших авторів без зазначення авторств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Arial"/>
                <a:ea typeface="Arial"/>
              </a:rPr>
              <a:t>самоплагіат</a:t>
            </a:r>
            <a:r>
              <a:rPr b="0" lang="uk-UA" sz="16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- оприлюднення (частково або повністю) власних раніше опублікованих наукових результатів як нових наукових результатів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Arial"/>
                <a:ea typeface="Arial"/>
              </a:rPr>
              <a:t>фабрикація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- вигадування даних чи фактів, що використовуються в освітньому процесі або наукових дослідженнях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Arial"/>
                <a:ea typeface="Arial"/>
              </a:rPr>
              <a:t>фальсифікація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- свідома зміна чи модифікація вже наявних даних, що стосуються освітнього процесу чи наукових досліджень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Arial"/>
                <a:ea typeface="Arial"/>
              </a:rPr>
              <a:t>списування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- виконання письмових робіт із залученням зовнішніх джерел інформації, крім дозволених для використання, зокрема під час оцінювання результатів навчанн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Arial"/>
                <a:ea typeface="Arial"/>
              </a:rPr>
              <a:t>обман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- надання завідомо неправдивої інформації щодо власної освітньої (наукової, творчої) діяльності чи організації освітнього процесу; формами обману є, зокрема, академічний плагіат, самоплагіат, фабрикація, фальсифікація та списуванн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Arial"/>
                <a:ea typeface="Arial"/>
              </a:rPr>
              <a:t>хабарництво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- надання (отримання) учасником освітнього процесу чи пропозиція щодо надання (отримання) коштів, майна, послуг, пільг чи будь-яких інших благ матеріального або нематеріального характеру з метою отримання неправомірної переваги в освітньому процесі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Arial"/>
                <a:ea typeface="Arial"/>
              </a:rPr>
              <a:t>необ’єктивне оцінювання</a:t>
            </a:r>
            <a:r>
              <a:rPr b="0" lang="uk-UA" sz="16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- свідоме завищення або заниження оцінки результатів навчання здобувачів осві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B0FF-2D69-46D0-B672-3B99D7C484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гальні вимоги до педагогічних і науково-педагогічних працівників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ічною діяльністю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уть займатися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кі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ють відповідну освіту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ізичний і психічний стан, що дозволяє виконувати посадові обов'язк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вень освіти, необхідний для провадження педагогічної та науково-педагогічної діяльност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Педагогічні та науково-педагогічні працівники приймаються на роботу шляхом укладання трудового договору,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тому числі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формі контракт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 результатами конкурсного відбор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порядку, визначеному центральним органом виконавчої влади у сфері осві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88BB-685B-459D-9A0E-2900346D71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Прямоугольник 3"/>
          <p:cNvGrpSpPr/>
          <p:nvPr/>
        </p:nvGrpSpPr>
        <p:grpSpPr>
          <a:xfrm>
            <a:off x="353880" y="1285920"/>
            <a:ext cx="8436240" cy="5072040"/>
            <a:chOff x="353880" y="1285920"/>
            <a:chExt cx="8436240" cy="5072040"/>
          </a:xfrm>
        </p:grpSpPr>
        <p:pic>
          <p:nvPicPr>
            <p:cNvPr id="79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353880" y="1285920"/>
              <a:ext cx="843624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428760" y="1357200"/>
              <a:ext cx="8286480" cy="49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Прямоугольник 1"/>
          <p:cNvSpPr/>
          <p:nvPr/>
        </p:nvSpPr>
        <p:spPr>
          <a:xfrm>
            <a:off x="428760" y="260280"/>
            <a:ext cx="8286480" cy="865080"/>
          </a:xfrm>
          <a:prstGeom prst="rect">
            <a:avLst/>
          </a:prstGeom>
          <a:solidFill>
            <a:srgbClr val="ffffcc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ржавні гарантії педагогічним та науково-педагогіч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442800" y="1125360"/>
            <a:ext cx="8272440" cy="503280"/>
          </a:xfrm>
          <a:prstGeom prst="rect">
            <a:avLst/>
          </a:prstGeom>
          <a:solidFill>
            <a:srgbClr val="ffffcc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«Про освіту» 2017 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8"/>
          <p:cNvSpPr/>
          <p:nvPr/>
        </p:nvSpPr>
        <p:spPr>
          <a:xfrm>
            <a:off x="442800" y="1628640"/>
            <a:ext cx="8272440" cy="4824720"/>
          </a:xfrm>
          <a:prstGeom prst="rect">
            <a:avLst/>
          </a:prstGeom>
          <a:solidFill>
            <a:srgbClr val="ffffcc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ежні умови праці, відпочинку, медичне обслуговуван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c00000"/>
              </a:buClr>
              <a:buFont typeface="Arial"/>
              <a:buAutoNum type="arabicPeriod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Arial"/>
                <a:ea typeface="Arial"/>
              </a:rPr>
              <a:t>Оплату підвищення кваліфікації впродовж п’ятирічного циклу</a:t>
            </a: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ий, соціальний, професійний захис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тановлення доплат до посадових окладів</a:t>
            </a: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авок заробітної плати) </a:t>
            </a: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 наукові ступені, вчені звання та кваліфікаційні категорії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Щомісячну виплату надбавок за вислугу років у відсотках до посадового окладу</a:t>
            </a: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авки заробітної плати) залежно від стажу педагогічної роботи у розмірах, що встановлюються законодавчими та нормативними акт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ання педагогічним і науково-педагогічним працівникам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річної </a:t>
            </a: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ошової винагороди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змірі </a:t>
            </a:r>
            <a:r>
              <a:rPr b="1" lang="uk-UA" sz="1800" spc="-1" strike="noStrike">
                <a:solidFill>
                  <a:srgbClr val="c00000"/>
                </a:solidFill>
                <a:latin typeface="Arial"/>
                <a:ea typeface="Arial"/>
              </a:rPr>
              <a:t>до одного посадового окладу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авки заробітної плати)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умлінну працю, зразкове виконання службових обов'язків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плату педагогічним і науково-педагогічним працівникам </a:t>
            </a: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помоги на оздоровлення у розмірі місячного посадового окладу</a:t>
            </a: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авки заробітної плати) при наданні щорічної відпуст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ання пільгових довготермінових кредитів на будівництво (реконструкцію) і придбання жит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solidFill>
            <a:srgbClr val="ffffcc"/>
          </a:solidFill>
          <a:ln w="9360">
            <a:solidFill>
              <a:srgbClr val="93540a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uk-UA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РЖАВНИЙ СТАНДАРТ початкової загальної освіти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станова КМУ від 20.04.2011 р. № 462)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РЖАВНИЙ СТАНДАРТ базової і повної загальної середньої освіти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а КМУвід 23 .11. 2011 р. № 139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solidFill>
            <a:srgbClr val="ffffcc"/>
          </a:solidFill>
          <a:ln w="9360">
            <a:solidFill>
              <a:srgbClr val="93540a"/>
            </a:solidFill>
            <a:miter/>
          </a:ln>
        </p:spPr>
        <p:txBody>
          <a:bodyPr anchor="t">
            <a:normAutofit fontScale="97000"/>
          </a:bodyPr>
          <a:p>
            <a:pPr marL="330840" indent="-330840"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іяльнісний підхід</a:t>
            </a:r>
            <a:r>
              <a:rPr b="0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рямованість навчально-виховного процесу на розвиток умінь і навичок особистості, застосування на практиці здобутих знань з різних навчальних предметів, успішну адаптацію людини в соціумі, професійну самореалізацію, формування здібностей до колективної діяльності та самоосвіт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мпетентнісний підхід</a:t>
            </a:r>
            <a:r>
              <a:rPr b="0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рямованість навчально-виховного процесу на досягнення результатів, якими є ієрархічно підпорядковані ключова, загальнопредметна і предметна (галузева) компетентності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обистісно зорієнтований підхід</a:t>
            </a:r>
            <a:r>
              <a:rPr b="0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рямованість навчально-виховного процесу на взаємодію і плідний розвиток особистості педагога та його учнів на основі рівності у спілкуванні та партнерства у навчанні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97FD-56B5-44A0-A6E4-0698C6E179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а українська школа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и Стандарту освіти.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вів, 2016. – 64 с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AB3D-DF52-4ABF-8A98-C3E13A0927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solidFill>
            <a:srgbClr val="ffffcc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uk-UA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 недопущення перевантаження учнів</a:t>
            </a:r>
            <a:br>
              <a:rPr sz="2000"/>
            </a:br>
            <a:r>
              <a:rPr b="1" lang="uk-UA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чаткових класів надмірним обсягом домашніх завдань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МОНУ № 1/9-72 від 28 січня 2014 року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285560"/>
            <a:ext cx="8229600" cy="5000760"/>
          </a:xfrm>
          <a:prstGeom prst="rect">
            <a:avLst/>
          </a:prstGeom>
          <a:solidFill>
            <a:srgbClr val="ffffcc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МОНУ </a:t>
            </a: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ртає увагу </a:t>
            </a:r>
            <a:r>
              <a:rPr b="1" lang="uk-UA" sz="1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недопущення перевантаження учнів початкових класів </a:t>
            </a: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льноосвітніх навчальних закладів та шкіл-дитячих садків надмірним обсягом домашніх завдань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1" lang="uk-UA" sz="1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сяг домашніх завдань визначається згідно з Державними санітарними правилами </a:t>
            </a: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нормами влаштування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  </a:t>
            </a:r>
            <a:r>
              <a:rPr b="1" lang="uk-UA" sz="1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1-му класі </a:t>
            </a: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і завдання </a:t>
            </a:r>
            <a:r>
              <a:rPr b="1" lang="uk-UA" sz="19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не задаються</a:t>
            </a:r>
            <a:r>
              <a:rPr b="0" lang="uk-UA" sz="19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2-4 класах обсяг домашніх завдань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 усіх предметів має бути таким, щоб витрати часу на їх виконання не перевищували: у 2-му класі – 45 хвилин; у 3-му класі – 1 години 10 хвилин; 4-му класі – 1 години 30 хвилин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 Учителі повинні спланувати роботу такого об’єму і змісту, щоб учні не відчували перевантаження, враховувати зайнятість учнів з інших предметів у цей день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емп і ритм роботи учнів, стан їхнього здоров’я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  Класному керівникові необхідно здійснювати сумарний підрахунок усіх домашніх завдань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той чи інший день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  Домашні завдання не даються учням на вихідні, святкові та канікулярні дні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1170-F6F7-47B6-9681-790DD4145A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solidFill>
            <a:srgbClr val="ffffcc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Міністерства освіти і науки Україн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 05.06.2001 № 1/12-1459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авні санітарні правила і норми влаштування, утримання загальноосвітніх навчальних закладів та організації навчально-виховного процесу ДСанПіН 5.5.2.008-01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значають: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 визначенні доцільності, характеру, змісту та обсягу 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машніх завдань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ід враховува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індивідуальні особливості учн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дагогічні вимог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яг домашніх завдань має бути таким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щоб витрати часу на їх виконання не перевищува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5-6-му класах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,5 годин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7-9 класах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3 годин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10-12 класах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 годи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4043-43B3-4F4E-A256-D0BD2EA0F1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af2d4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о-правові акти загального значенн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5EE6-924B-4DB3-B5E8-CA8EE5479A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solidFill>
            <a:srgbClr val="ffffcc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ієнтовна програма здійснення внутрішнього контролю в загальноосвітньому навчальному закладі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ист МОН Україн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.08.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3 р. №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9-533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3FD1-3171-443B-AC75-BEABA360C9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 сучасні підходи до навчально- виховного процесу учнів з особливими освітніми потребами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Лист МОН № 1/9-2 від 10.01.17 рок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римка психічного розвитку (далі - ЗПР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не є стійким незворотнім психічним порушенням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ід впливом кваліфікованої корекційної допомоги практичного психолога, посада якого передбачена у штаті працівників загальноосвітніх навчальних закладів, а також вчителя-логопеда,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ти із ЗПР досягають стабільних успіхів у навчанні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в подальшому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ють можливість опанувати Державний стандарт базової повної загальної 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За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жанням батьків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рекомендацією психолого-медико-педагогічної консультації,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тина із ЗПР може навчатися в інклюзивному класі загальноосвітньої школи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о до постанов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МУ від 15 серпн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р. № 872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вердження Порядку організації інклюзивного навчання у загальноосвітніх навчальних закладах» с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едньої осві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16AF-1B87-4687-93E6-5EE9F860CA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навчання в інклюзивних класах здійснюється також за </a:t>
            </a: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іальними підручниками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олошується на особливій актуальності питання забезпечення сліпих учнів, не залежно від місця та форми їх навчання, підручниками, надрукованими шрифтом Брайля. </a:t>
            </a: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пряма відповідальність органів управління освіти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ртається увага, що постановою КМУ від 26 жовтня 2016 р. за № 753 установлено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 навчання у школі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пеня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З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дітей з особливими освітніми потребами з обов’язковим підготовчим класом та 1-4 класи (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років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Постановою КМУ від 23 квітня 2003 р. № 585 слова «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і потребують корекції фізичного та (або) розумового розвитку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інено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ми «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особливими освітніми потребами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; слова «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умово відсталих дітей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інено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ами «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тей з порушеннями розумового розвитку».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ою КМУ від 27 вересня 2016 р. за № 671 «П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сення змін до деяких постанов Кабінету Міністрів України»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новлено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що учням 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порушеннями розумового розвитку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ється свідоцтво про базову загальну середню освіту за спеціальною програмою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учням 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помірною розумовою відсталістю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ється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ідка про закінчення повного курсу навчання за спеціальною програмою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8B31-9BAC-4AC6-98AF-3177CE90B9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оження про індивідуальну форму навчання в загальноосвітніх навчальних заклад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тверджено наказом МОНУ № 8 від 12.01.2016 р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тратив чинність, наказ МОНУ № 732 від 20.12.2002 р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Індивідуальна форма навчання</a:t>
            </a:r>
            <a:r>
              <a:rPr b="1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іб організації навчальної діяльності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кий регулюється певним, наперед визначеним розпорядком, забезпечується педагогічними працівниками за місцем проживання учнів та організовується для забезпечення права громадян на здобуття повної загальної середньої освіти»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з форм організації навчально-виховного процесу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F4BF-22A6-44FF-BB56-84F4744DCE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ідстави для організації індивідуальної форми навчанн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а одного з батьків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 їх законних представників (для повнолітніх – їх особиста заява) про зарахування на індивідуальну форму навчанн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з керівника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чального заклад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ження відповідного органу управління освіто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AC69-2496-44B9-A997-4F5E76CE9A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Індивідуальна форма навчання запроваджуєть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осіб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і </a:t>
            </a: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 станом здоров’я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жуть відвідувати навчальний заклад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живають у селах і селищах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ли кількість учнів у класі становить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ше 5 осіб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живають у зоні збройного конфлікту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 тимчасово окупованій території України або у населених пунктах, на території яких органи державної влади тимчасово не здійснюють або здійснюють не в повному обсязі свої повноваження тощо та надзвичайних ситуацій природного або техногенного характеру (з використанням дистанційної форми навчання) відповідно до Закону України  «Про забезпечення прав і свобод громадян та правовий режим на тимчасово окупованій території України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ють високий навчальний потенціал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можуть прискорено закінчити школ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є іноземцями або особами без громадянств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іти-біженці, діти, чиї батьки подали заяви про визнання біженцями або особами, які потребують додаткового чи тимчасового захисту, діти іноземців та осіб без громадянства, які утримуються в пунктах тимчасового перебування іноземців та осіб без громадянств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DBCB-CD7D-4B28-8C10-F9617F50DB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ОЖЕННЯ</a:t>
            </a:r>
            <a:br>
              <a:rPr sz="2400"/>
            </a:b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 екстернат у загальноосвітніх навчальних закладах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верджено наказом МОНУ 13.03.2017  № 369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кстернат</a:t>
            </a:r>
            <a:r>
              <a:rPr b="0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- 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а</a:t>
            </a:r>
            <a:r>
              <a:rPr b="0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буття загальної середньої освіти, що передбачає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ійне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 тому числі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корене, опанування екстерном змісту навчальних предметів певного освітнього рівн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/або за певний клас в обсязі, визначеному відповідним державним стандартом загальної середньої освіти, та отримання відповідного документа про осві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гани управління освітою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ред підпорядкованих загальноосвітніх навчальних закладів 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значають заклади, у яких організовується екстернат</a:t>
            </a:r>
            <a:r>
              <a:rPr b="0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здійснюється річне оцінювання і атестація екстерні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2C8A-FC79-4B7B-8644-4092D6EDC7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af2d4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ус педаго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6A64-88BE-4F52-9643-34A18C9954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solidFill>
            <a:srgbClr val="faf2d4"/>
          </a:solidFill>
          <a:ln w="9360">
            <a:solidFill>
              <a:srgbClr val="93540a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дагогічне навантажен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071720"/>
            <a:ext cx="8229600" cy="528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Прямоугольник 3"/>
          <p:cNvGrpSpPr/>
          <p:nvPr/>
        </p:nvGrpSpPr>
        <p:grpSpPr>
          <a:xfrm>
            <a:off x="353880" y="1000080"/>
            <a:ext cx="8436240" cy="5430960"/>
            <a:chOff x="353880" y="1000080"/>
            <a:chExt cx="8436240" cy="5430960"/>
          </a:xfrm>
        </p:grpSpPr>
        <p:pic>
          <p:nvPicPr>
            <p:cNvPr id="115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353880" y="1000080"/>
              <a:ext cx="8436240" cy="543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28760" y="1071720"/>
              <a:ext cx="8286480" cy="528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5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uk-UA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орма педагогічного навантаження становить </a:t>
              </a:r>
              <a:r>
                <a:rPr b="1" lang="uk-UA" sz="25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18 годин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згідно Закону України “Про загальну середню освіту” ст. 25)</a:t>
              </a: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5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Доплати педагогічним працівникам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500" spc="-1" strike="noStrike">
                  <a:solidFill>
                    <a:srgbClr val="b55475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uk-UA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гідно Постанови КМУ від 25 серпня 2004 р. № 1096</a:t>
              </a:r>
              <a:r>
                <a:rPr b="1" lang="uk-UA" sz="2500" spc="-1" strike="noStrike">
                  <a:solidFill>
                    <a:srgbClr val="b55475"/>
                  </a:solidFill>
                  <a:latin typeface="Times New Roman"/>
                  <a:ea typeface="Times New Roman"/>
                </a:rPr>
                <a:t>)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ласне керівництво – </a:t>
              </a:r>
              <a:r>
                <a:rPr b="1" lang="uk-UA" sz="25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20-25 %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евірка зошитів – </a:t>
              </a:r>
              <a:r>
                <a:rPr b="1" lang="uk-UA" sz="25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10-20 %</a:t>
              </a:r>
              <a:r>
                <a:rPr b="1" lang="uk-UA" sz="2500" spc="-1" strike="noStrike">
                  <a:solidFill>
                    <a:srgbClr val="b55475"/>
                  </a:solidFill>
                  <a:latin typeface="Times New Roman"/>
                  <a:ea typeface="Times New Roman"/>
                </a:rPr>
                <a:t> </a:t>
              </a:r>
              <a:r>
                <a:rPr b="0" lang="uk-UA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 </a:t>
              </a:r>
              <a:r>
                <a:rPr b="0" i="1" lang="uk-UA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класах із кількістю учнів менше 12 осіб оплата за класне керівництво та перевірку письмових робіт складає </a:t>
              </a:r>
              <a:r>
                <a:rPr b="1" lang="uk-UA" sz="25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50 % відповідних доплат</a:t>
              </a:r>
              <a:r>
                <a:rPr b="0" lang="uk-UA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відування майстернями, навчальними кабінетами, навчально-дослідними ділянками – </a:t>
              </a:r>
              <a:r>
                <a:rPr b="1" lang="uk-UA" sz="25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10-15 %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ібліотеками у ЗНЗ та ПТНЗ </a:t>
              </a:r>
              <a:r>
                <a:rPr b="1" lang="uk-UA" sz="2500" spc="-1" strike="noStrike">
                  <a:solidFill>
                    <a:srgbClr val="b55475"/>
                  </a:solidFill>
                  <a:latin typeface="Times New Roman"/>
                  <a:ea typeface="Times New Roman"/>
                </a:rPr>
                <a:t>– </a:t>
              </a:r>
              <a:r>
                <a:rPr b="1" lang="uk-UA" sz="25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5-15 %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 керівництво методичними комісіями  у ЗНЗ, ПТНЗ та ВНЗ І-ІІ рівня акредитації </a:t>
              </a:r>
              <a:r>
                <a:rPr b="1" lang="uk-UA" sz="2500" spc="-1" strike="noStrike">
                  <a:solidFill>
                    <a:srgbClr val="b55475"/>
                  </a:solidFill>
                  <a:latin typeface="Times New Roman"/>
                  <a:ea typeface="Times New Roman"/>
                </a:rPr>
                <a:t>– </a:t>
              </a:r>
              <a:r>
                <a:rPr b="1" lang="uk-UA" sz="25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10-15 %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E87D-CEEB-4C08-80FD-AE398E254F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5AA8-1E0B-4199-A01F-8FE50AE61F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solidFill>
            <a:srgbClr val="faf2d4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кони Украї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 освіту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 р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 вищу освіту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1556-VII від 1 липня 2014 р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 дошкільну освіту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2628-III від11 липня 2001 р.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 позашкільну освіту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1841-III від 22 червня 2000 р.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 загальну середню освіту</a:t>
            </a:r>
            <a:r>
              <a:rPr b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651-XIV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травня 1999 р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 професійно-технічну освіту</a:t>
            </a:r>
            <a:r>
              <a:rPr b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103/98-ВР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02.1998 р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 професійний розвиток працівників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4312-VI від 12 січня 2012 р.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15E1-CCD7-460E-B065-6213D3D149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Прямоугольник 4"/>
          <p:cNvGrpSpPr/>
          <p:nvPr/>
        </p:nvGrpSpPr>
        <p:grpSpPr>
          <a:xfrm>
            <a:off x="353880" y="1122480"/>
            <a:ext cx="8436240" cy="5308560"/>
            <a:chOff x="353880" y="1122480"/>
            <a:chExt cx="8436240" cy="5308560"/>
          </a:xfrm>
        </p:grpSpPr>
        <p:pic>
          <p:nvPicPr>
            <p:cNvPr id="123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353880" y="1122480"/>
              <a:ext cx="8436240" cy="530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28760" y="1197000"/>
              <a:ext cx="8286480" cy="51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гідно </a:t>
              </a: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т. 51 КЗпП </a:t>
              </a:r>
              <a:r>
                <a:rPr b="0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скорочена тривалість робочого час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93540a"/>
                  </a:solidFill>
                  <a:latin typeface="Times New Roman"/>
                  <a:ea typeface="Times New Roman"/>
                </a:rPr>
                <a:t>Інструкція про обчислення заробітної плати педагогічних працівників № 102 встановлює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обочий час учителів регулюється </a:t>
              </a: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атвердженим розкладом</a:t>
              </a:r>
              <a:r>
                <a:rPr b="0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вчальних занять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c00000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ід час канікул  </a:t>
              </a:r>
              <a:r>
                <a:rPr b="0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ерівник закладу залучає педагогічних працівників до </a:t>
              </a:r>
              <a:r>
                <a:rPr b="0" i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дагогічної та організаційної роботи</a:t>
              </a:r>
              <a:r>
                <a:rPr b="0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в </a:t>
              </a: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межах часу, що не перевищує їх навчального навантаження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авки з/п педпрацівників установлюються, виходячи з витрат робочого часу в астрономічних годинах (60 хв.), тому </a:t>
              </a: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роткі перерви між уроками є </a:t>
              </a: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робочим часом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      </a:t>
              </a: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дагогічного працівни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Прямоугольник 5"/>
          <p:cNvGrpSpPr/>
          <p:nvPr/>
        </p:nvGrpSpPr>
        <p:grpSpPr>
          <a:xfrm>
            <a:off x="353880" y="212760"/>
            <a:ext cx="8436240" cy="914400"/>
            <a:chOff x="353880" y="212760"/>
            <a:chExt cx="8436240" cy="914400"/>
          </a:xfrm>
        </p:grpSpPr>
        <p:pic>
          <p:nvPicPr>
            <p:cNvPr id="126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353880" y="212760"/>
              <a:ext cx="84362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28760" y="285840"/>
              <a:ext cx="828648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Тривалість робочого часу вчител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2D16-DE93-49E8-A9EA-246441FF30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лата праці педагогічних і науково-педагогічних працівників (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“Про освіту” 2017 р.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solidFill>
            <a:srgbClr val="ffffcc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ови та розмір оплати праці педагогічних і науково-педагогічних працівників державних і комунальних закладів освіти встановлюються Кабінетом Міністрів України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ічний працівник, що пройшов </a:t>
            </a:r>
            <a:r>
              <a:rPr b="1" lang="uk-UA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ртифікацію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тримує щомісячну доплату у розмірі 20 відсотків посадового окладу протягом строку дії сертифікату</a:t>
            </a:r>
            <a:r>
              <a:rPr b="0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ічним і науково-педагогічним працівникам встановлюються щомісячні 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бавки за вислугу років</a:t>
            </a:r>
            <a:r>
              <a:rPr b="0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розмірах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д три роки — 10 відсотків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д десять років — 20 відсотків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д двадцять років — 30 відсотків посадового оклад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FF2B-AD72-47DA-A662-16735C72FE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ffffcc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лата педагогам за роботу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наднормо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Інструкції про порядок обчислення заробітної плати працівників освіти від 15.04.1993 № 10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за години педагогічної роботи, виконаної понад встановлену норму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, провадиться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додаткова оплата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відповідно до отримуваної ставки заробітної плати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в одинарному розмір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ільний лист МОН України від 28.11.08 1/9-770 та ЦК Профспілки працівників освіти і науки України від 27.11.08 № 02-5/46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керівники навчальних закладів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, як правило,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повинні організувати заміщення тимчасово відсутніх учителів учителями </a:t>
            </a:r>
            <a:r>
              <a:rPr b="1" i="1" lang="uk-UA" sz="2200" spc="-1" strike="noStrike">
                <a:solidFill>
                  <a:srgbClr val="c00000"/>
                </a:solidFill>
                <a:latin typeface="Calibri"/>
              </a:rPr>
              <a:t>тієї ж спеціальності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, забезпечивши оплату праці відповідно до п.73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(погодинно), чи п.68 (за тарифікацією) Інструкції про порядок обчислення заробітної плати працівників осві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0300-73D6-47C8-B119-6525CBEBE0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fffcc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окремих виняткових випадках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 таку заміну забезпечити неможливо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міщення здійснюється наступним чином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ителі з інших дисциплін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міняючи тимчасово відсутніх колег, 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конують програму з свого предмету дещо наперед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щоб згодом передати відповідні години учителю, який нині відсутній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виконання відсутнім пропущеної прогр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такому випадку учителю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кий забезпечує заміну тимчасово відсутнього колеги, </a:t>
            </a:r>
            <a:r>
              <a:rPr b="1" lang="uk-UA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додаткова оплата не провадитьс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скільки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льний обсяг педагогічного навантаження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збільшивс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дещо розподілився в часі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4F5B-BABB-4CEE-8012-8DD9805494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танова КМУ від 01.03.2014 № 65 «Про економію державних коштів та недопущення втрат бюджету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атверджені відповідні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Заходи щодо економного та раціонального використання державних коштів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12 Заходів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дбачено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мчасове припинення встановлення доплат за виконання обов'язків тимчасово відсутніх працівників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uk-UA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крім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ікарів, фахівців з базовою та неповною вищою медичною освітою і професіоналів з вищою немедичною освітою та наукових працівників, що допущенні до медичної діяльності, молодших медичних сестер, соціальних робітників, вихователів, помічників вихователів, 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ителів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айстрів виробничого навчання, викладачів професійно-технічних та вищих навчальних закладів, а також працівників вищих навчальних закладів, переміщених з району проведення антитерористичної операції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12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ає прямої дії стосовно комунальних навчальних закладів і не поширюється на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і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дини заміщення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ведені вчителем за відсутніх колег </a:t>
            </a:r>
            <a:r>
              <a:rPr b="1" i="1" lang="uk-UA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ють оплачуватися з погодинного розрахунку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иходячи зі ставки заробітної плати вчителя, який замінює тимчасово відсутнього колег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A0BE-B6A8-4289-A417-5E2A05C4F0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ою КМУ від 14.12.2016 р. № 974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верджено підвищення посадових окладів педагогічних працівників навчальних закладів, які фінансуються за рахунок освітньої субвенції з державного бюджету місцевим бюджетам, починаючи з 1 січня 2017 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F99E-1ADD-458A-ADD0-71C92AE726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68360" y="2781360"/>
          <a:ext cx="8207280" cy="3521160"/>
        </p:xfrm>
        <a:graphic>
          <a:graphicData uri="http://schemas.openxmlformats.org/drawingml/2006/table">
            <a:tbl>
              <a:tblPr/>
              <a:tblGrid>
                <a:gridCol w="3456000"/>
                <a:gridCol w="2374920"/>
                <a:gridCol w="2376360"/>
              </a:tblGrid>
              <a:tr h="893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ерівні та педагогічні праців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рифний розряд відповідно по Постанови КМУ від 30.08.2002 № 12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рифний розряд відповідно по Постанови КМУ від 14.12.2016 № 9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8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ректори ЗНЗ, ПТНЗ, міжкільних закладів, ВНЗ І-ІІ рівеі акредит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-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7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відувач (директор): ДНЗ, школи естетичного виховання, ПН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і (усіх спеціальностей), викладачі, вихователі, вихователі-методисти, … методисти, практичні психологи, педагог-організатор, концертмейстер, соціальний педаг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есійний розвиток та підвищення кваліфікації педагогічних і науково-педагогічних працівників</a:t>
            </a:r>
            <a:br>
              <a:rPr sz="2400"/>
            </a:b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кону “Про освіту” 2017 р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есійний розвиток педагогічних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 науково-педагогічних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івників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бачає неперервне самовдосконалення та участь у програмах підвищення кваліфікації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гальна кількість академічних годин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ідвищення кваліфікації педагогічного працівника 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продовж п’яти років не може бути меншою за 150 годин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яких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вна кількість годин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є бути обов’язково спрямована на вдосконалення знань, вмінь і практичних навичок у частині роботи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дітьми з особливими освітніми потребам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3E9C-4C62-4E1D-AAC5-9ACDAE76C9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МОНУ № 1/9-630 від 05.12.2014 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cc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неухильне дотримання принципів гарантування свободи педагогічної діяльності вч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A66D-176C-41CD-A59D-04BF44FC38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solidFill>
            <a:srgbClr val="ffffcc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ус шкільного бібліотекар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37A6-B853-4761-BBEF-13615C88E8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solidFill>
            <a:srgbClr val="ffffcc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ібліотекарі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ідносяться </a:t>
            </a:r>
            <a:r>
              <a:rPr b="1" i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рацівників культури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за відомчою належністю —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 працівників освіти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о до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а Міністерства освіти і науки, молоді та спорту України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Щодо </a:t>
            </a:r>
            <a:r>
              <a:rPr b="1" i="1" lang="uk-UA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плати праці </a:t>
            </a:r>
            <a:r>
              <a:rPr b="1" i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</a:t>
            </a:r>
            <a:r>
              <a:rPr b="1" i="1" lang="uk-UA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становлення розряду</a:t>
            </a:r>
            <a:r>
              <a:rPr b="1" i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івникам бібліотеки загальноосвітнього навчального закладу</a:t>
            </a:r>
            <a:r>
              <a:rPr b="1" i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r>
              <a:rPr b="0" lang="uk-UA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ід 24 жовтня 2011 р. </a:t>
            </a:r>
            <a:br>
              <a:rPr sz="3000"/>
            </a:b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1/12-5765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 час встановлення розрядів бібліотечним працівникам </a:t>
            </a:r>
            <a:r>
              <a:rPr b="0" i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осовуються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3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кваліфікаційні вимог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0376-31B7-4918-AAD0-34BCB64A60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solidFill>
            <a:srgbClr val="faf2d4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8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Укази Президента Украї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Стратегію сталого розвитку «Україна – 2020»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5/2015р. від 12.01.2015р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 Стратегію національно-патріотичного виховання дітей та молоді на 2016-2020 роки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580/2015 від 13.10.2015р.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останови Кабінету міністрів Украї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затвердження Положення про дошкільний навчальний заклад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№305 від 12.03.2003р., зі змін. 29.07.2015 №53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затвердження Положення про загальноосвітній навчальний заклад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№778 від 27.08.2010р., зі змін. 22.01.2014 №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затвердження переліку типів позашкільних  навчальних закладів і Положення про  позашкільний навчальний заклад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№433 від 06.05.2001р., зі змін. від 27.08.2010 №769 )</a:t>
            </a:r>
            <a:br>
              <a:rPr sz="2400"/>
            </a:b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5D35-38FD-4E53-AE27-CAD2C15B69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провідного бібліотекар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овна вища освіта відповідного напряму підготовки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агістр, спеціаліст),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ж роботи за професією бібліотекаря І категорії не менше 2 рокі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бібліотекаря І категорії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на вища освіта відповідного напряму підготовки (магістр, спеціаліст): для магістра — без вимог до стажу роботи, для спеціаліста — стаж роботи за професією бібліотекаря II категорії не менше 2 рокі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бібліотекаря II категорії: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на вища освіта відповідного напряму підготовки (спеціаліст), стаж роботи за професією бібліотекаря не менше 1 рок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бібліотекаря: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на вища освіта відповідного напряму підготовки (спеціаліст) без вимог до стажу робо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096D-D2D5-4D6A-8900-7DD532F261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плати доплати за вислугу рокі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івникам державних і комунальних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ібліот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(Постанова КМУ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ід 22 січня 2005 р. № 84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лата за вислугу років установлюється працівникам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авних і комунальних бібліотек (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ічних, спеціальних та спеціалізованих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залежно від стажу роботи в такому розмірі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92b2c"/>
                </a:solidFill>
                <a:latin typeface="Times New Roman"/>
                <a:ea typeface="Times New Roman"/>
              </a:rPr>
              <a:t>2.    Доплата за вислугу років </a:t>
            </a:r>
            <a:r>
              <a:rPr b="1" lang="uk-UA" sz="2000" spc="-1" strike="noStrike">
                <a:solidFill>
                  <a:srgbClr val="292b2c"/>
                </a:solidFill>
                <a:latin typeface="Times New Roman"/>
                <a:ea typeface="Times New Roman"/>
              </a:rPr>
              <a:t>виплачується щомісяця </a:t>
            </a:r>
            <a:r>
              <a:rPr b="0" lang="uk-UA" sz="2000" spc="-1" strike="noStrike">
                <a:solidFill>
                  <a:srgbClr val="292b2c"/>
                </a:solidFill>
                <a:latin typeface="Times New Roman"/>
                <a:ea typeface="Times New Roman"/>
              </a:rPr>
              <a:t>працівникам державних і комунальних бібліотек, які провадять культурну, освітню, інформаційну, науково-дослідну, методичну діяльність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FDFA-F392-4E21-BC0B-EF57DDD99D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55640" y="2852640"/>
          <a:ext cx="7632720" cy="1890720"/>
        </p:xfrm>
        <a:graphic>
          <a:graphicData uri="http://schemas.openxmlformats.org/drawingml/2006/table">
            <a:tbl>
              <a:tblPr/>
              <a:tblGrid>
                <a:gridCol w="2736720"/>
                <a:gridCol w="4896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ж роботи 20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мір щомісячної доплати до посадового окладу (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відсотках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ад 3 ро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ад 10 рокі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ад 20 рокі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ою Кабінету Міністрів України від 30.09.200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№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73 „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підвищення заробітної плати працівникам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ібліотек”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1 жовтня 2009 року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івникам бібліоте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новлено надбавку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собливі умови роботи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іксованому розмірі 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відсотків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адового окла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ою КМУ від 25.03.2014 р. № 89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сено зміни до п.1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анови КМУ «Про підвищення заробітної плати працівникам бібліотек» від 30.09.2009 р. № 107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новлено, що 50% — це граничний розмір надбавк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встановлюється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н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івником установ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кладу, організації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ежах фонду оплати прац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бто надбавка може бути і 10 %, і 35 %, але не більше 50 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35B9-501B-476B-8CD5-2DE292B368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uk-UA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адові оклади бібліотекарів навчальних закладів 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юються відповідно до наказу Міністерства культури і туризму України </a:t>
            </a: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 впорядкування умов оплати праці працівників культури на основі Єдиної тарифної сітки»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 18 жовтня 2005 р. № 745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изначення 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рифного розряду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ібно керуватися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ком № 3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Наказу Міністерства культури і туризму України «Про внесення змін до наказу Міністерства культури і туризму України від 18.10.2005 р. № 745»  № 67 від 11.10.2007 р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кільки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мір ТР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 значно коливати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ідний бібліотекар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9 по 12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категорії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8 по 11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категорії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8 по 10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ібліотекар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8 по 9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1C66-AEBF-4A05-9E8E-09CDAD5EE1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ою Кабінету Міністрів України від 30 вересня 2009 р. № 1062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 1 січня 2010 року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оваджен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плата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цівникам бібліотек </a:t>
            </a:r>
            <a:r>
              <a:rPr b="1" lang="uk-UA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помоги на оздоровлення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 час щорічної відпустки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озмірі посадового окладу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авка заробітної плати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</a:t>
            </a:r>
            <a:r>
              <a:rPr b="1" lang="uk-UA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теріальної допомоги для вирішення соціально-побутових питань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озмірі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 одного посадового окладу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авка заробітної плати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BFAA-2A67-4DD8-854D-116BE6C6DE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о до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их штатних нормативів загальноосвітніх навчальних закладів</a:t>
            </a:r>
            <a:r>
              <a:rPr b="0" i="1" lang="uk-UA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uk-UA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верджених </a:t>
            </a:r>
            <a:r>
              <a:rPr b="0" i="1" lang="uk-UA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зом МОНУ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 6 грудня 2010 р. № 1205,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ада </a:t>
            </a:r>
            <a:r>
              <a:rPr b="1" i="1" lang="uk-UA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відувача бібліотеки </a:t>
            </a:r>
            <a:r>
              <a:rPr b="0" lang="uk-UA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итиметься за наявності у навчальному закладі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1 і більше класів</a:t>
            </a:r>
            <a:r>
              <a:rPr b="1" i="1" lang="uk-UA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6ED1-129F-4D8A-8300-BB4B8D8790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гідно із </a:t>
            </a:r>
            <a:r>
              <a:rPr b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ними рекомендаціями з питань формування штатів загальноосвітніх навчально-виховних закладів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веденими листом Міністерства освіти і науки України від 19.06.2001 р. № 1/9-234 зі змінами та доповненнями від 10.08.2001 р. № 1/9-282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гальноосвітніх навчальних закладах з кількістю до </a:t>
            </a:r>
            <a:r>
              <a:rPr b="1" lang="uk-UA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 класів включно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осада бібліотекаря не передбачається</a:t>
            </a:r>
            <a:r>
              <a:rPr b="1" lang="uk-UA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br>
              <a:rPr sz="2500"/>
            </a:b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у </a:t>
            </a:r>
            <a:r>
              <a:rPr b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в’язки завідування бібліотекою покладаються на одного із педагогічних чи інших працівників школи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ким за виконання цієї роботи </a:t>
            </a:r>
            <a:r>
              <a:rPr b="1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ійснюється </a:t>
            </a:r>
            <a:r>
              <a:rPr b="1" i="1" lang="uk-UA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плата в розмірі 10 відсотків </a:t>
            </a:r>
            <a:r>
              <a:rPr b="1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ки заробітної плати 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садового окладу).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BFEC-853C-4128-9F2B-CF2734FAF8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оження “Про загальноосвітній навчальний заклад”</a:t>
            </a:r>
            <a:br>
              <a:rPr sz="2000"/>
            </a:br>
            <a:r>
              <a:rPr b="0" lang="uk-UA" sz="2000" spc="-1" strike="noStrike">
                <a:solidFill>
                  <a:srgbClr val="b55475"/>
                </a:solidFill>
                <a:latin typeface="Times New Roman"/>
                <a:ea typeface="Times New Roman"/>
              </a:rPr>
              <a:t>(затверджено Постановою КМ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ід 27 серпня 2010 р. N 778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125000"/>
            <a:ext cx="3962520" cy="5504040"/>
          </a:xfrm>
          <a:prstGeom prst="rect">
            <a:avLst/>
          </a:prstGeom>
          <a:solidFill>
            <a:srgbClr val="ffffcc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. 74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ні (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хованці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закладу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ють гарантоване державою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раво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на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ість і безоплатність повної загальної середньої освіти 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ржавному та комунальному закладі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ір певного закладу,  форми навчання,  профільного напряму, факультативів, спецкурсів, позакласних занять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печні і нешкідливі умови навчання та праці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ування навчально-виробничою,                  науковою,  матеріально-технічною, культурно-спортивною,  корекційно-відновною та лікувально-оздоровчою базою закладу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48320" y="1125000"/>
            <a:ext cx="4114800" cy="5504040"/>
          </a:xfrm>
          <a:prstGeom prst="rect">
            <a:avLst/>
          </a:prstGeom>
          <a:solidFill>
            <a:srgbClr val="ffffcc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ь в    різних   видах   навчальної,   науково-практичної  діяльності, конференціях, олімпіадах, виставках, конкурсах тощо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имання додаткових,  у  тому  числі   платних,   навчальних  послуг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гляд результатів  оцінювання  навчальних досягнень з усіх предметів інваріантної та варіативної частини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ь в роботі органів громадського самоврядування закладу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ь в роботі добровільних самодіяльних об'єднань,  творчих студій, клубів, гуртків, груп за інтересами тощо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гу людської    гідності,   вільне   вираження   поглядів, переконань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ист від  будь-яких   форм   експлуатації,   психічного   і </a:t>
            </a:r>
            <a:br>
              <a:rPr sz="1500"/>
            </a:b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ізичного  насильства,  від дій педагогічних та інших працівників, які порушують їх права, принижують честь і гідність.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EED9-AC54-4EAB-8DA0-02F8143D56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оження “Про загальноосвітній навчальний заклад”</a:t>
            </a:r>
            <a:br>
              <a:rPr sz="2000"/>
            </a:br>
            <a:r>
              <a:rPr b="0" lang="uk-UA" sz="2000" spc="-1" strike="noStrike">
                <a:solidFill>
                  <a:srgbClr val="b55475"/>
                </a:solidFill>
                <a:latin typeface="Times New Roman"/>
                <a:ea typeface="Times New Roman"/>
              </a:rPr>
              <a:t>(затверджено Постановою КМ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ід 27 серпня 2010 р. N 778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125000"/>
            <a:ext cx="4114800" cy="5232600"/>
          </a:xfrm>
          <a:prstGeom prst="rect">
            <a:avLst/>
          </a:prstGeom>
          <a:solidFill>
            <a:srgbClr val="ffffcc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5000"/>
          </a:bodyPr>
          <a:p>
            <a:pPr marL="324000" indent="-324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. 75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ні закладу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обов'язані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лодівати знаннями,  вміннями,  практичними   навичками   в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язі  не  меншому,  ніж визначено Державним стандартом загальної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ньої освіти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вищувати свій загальний культурний рівень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ти участь у пошуковій та науковій діяльності, передбаченій навчальними   програмами   та   навчальним  планом  закладу,  його статутом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тримуватися вимог законодавства,  моральних,  етичних норм, поважати честь і гідність інших учнів та працівників; </a:t>
            </a: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48320" y="1125000"/>
            <a:ext cx="4114800" cy="5232600"/>
          </a:xfrm>
          <a:prstGeom prst="rect">
            <a:avLst/>
          </a:prstGeom>
          <a:solidFill>
            <a:srgbClr val="ffffcc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увати вимоги  педагогічних  та інших працівників закладу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о до статуту та правил внутрішнього розпорядку закладу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ти участь у різних видах трудової діяльності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байливо ставитися до державного,  громадського і  особистого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йна, майна інших учасників навчально-виховного процес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тримуватися вимог  статуту,  правил внутрішнього розпорядку 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аду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тримуватися 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ил особистої гігієни.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71D5-06F4-4E84-9A16-9FA90B03E5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" y="333000"/>
            <a:ext cx="8229600" cy="5792760"/>
          </a:xfrm>
          <a:prstGeom prst="rect">
            <a:avLst/>
          </a:prstGeom>
          <a:ln w="0">
            <a:noFill/>
          </a:ln>
        </p:spPr>
      </p:pic>
      <p:grpSp>
        <p:nvGrpSpPr>
          <p:cNvPr id="176" name="Прямоугольник 3"/>
          <p:cNvGrpSpPr/>
          <p:nvPr/>
        </p:nvGrpSpPr>
        <p:grpSpPr>
          <a:xfrm>
            <a:off x="396720" y="262080"/>
            <a:ext cx="8350560" cy="5906880"/>
            <a:chOff x="396720" y="262080"/>
            <a:chExt cx="8350560" cy="5906880"/>
          </a:xfrm>
        </p:grpSpPr>
        <p:pic>
          <p:nvPicPr>
            <p:cNvPr id="177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96720" y="262080"/>
              <a:ext cx="8350560" cy="59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68360" y="333360"/>
              <a:ext cx="8207280" cy="57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. 76.</a:t>
              </a: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uk-UA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чні закладу залучаються</a:t>
              </a:r>
              <a:r>
                <a:rPr b="0" lang="uk-UA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за їх згодою та  згодою  батьків або осіб,  які їх замінюють,  </a:t>
              </a:r>
              <a:r>
                <a:rPr b="1" lang="uk-UA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 самообслуговування,  різних видів </a:t>
              </a:r>
              <a:r>
                <a:rPr b="1" lang="uk-UA" sz="26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суспільно  корисної  праці</a:t>
              </a:r>
              <a:r>
                <a:rPr b="0" lang="uk-UA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відповідно   до   статуту   і   правил внутрішнього   розпорядку  з  урахуванням  віку,  статі,  фізичних можливостей. </a:t>
              </a:r>
              <a:br>
                <a:rPr sz="2600"/>
              </a:b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. 77. </a:t>
              </a:r>
              <a:r>
                <a:rPr b="1" lang="uk-UA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  невиконання  учасниками  навчально-виховного  процесу своїх   обов'язків</a:t>
              </a:r>
              <a:r>
                <a:rPr b="0" lang="uk-UA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  порушення   статуту,   правил   внутрішнього розпорядку на  них  можуть  </a:t>
              </a:r>
              <a:r>
                <a:rPr b="1" lang="uk-UA" sz="26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накладатися  стягнення  відповідно  до закону. </a:t>
              </a:r>
              <a:br>
                <a:rPr sz="2600"/>
              </a:b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FFF6-84B0-4AC5-9985-FB88DA439A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68360" y="549000"/>
            <a:ext cx="8229600" cy="5616360"/>
          </a:xfrm>
          <a:prstGeom prst="rect">
            <a:avLst/>
          </a:prstGeom>
          <a:solidFill>
            <a:srgbClr val="faf2d4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затвердження Порядку проведення ЗНО та моніторингу якості освіти  </a:t>
            </a:r>
            <a:r>
              <a:rPr b="0" i="1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№1095 від 25.08.2004 у ред. від 08.07.2015 №533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  Про затвердження Державного стандарту початкової загальної освіти  </a:t>
            </a:r>
            <a:r>
              <a:rPr b="0" i="1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№462 від 20.04.2011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затвердження Державного стандарту базової і повної загальної середньої освіти  </a:t>
            </a:r>
            <a:r>
              <a:rPr b="0" i="1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№ 1392 від 23.11.2011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затвердження Національної рамки кваліфікацій   </a:t>
            </a:r>
            <a:r>
              <a:rPr b="0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1341 від 23.11.2011 р</a:t>
            </a:r>
            <a:r>
              <a:rPr b="0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ня про екстернат у загальноосвітніх навчальних закладах (</a:t>
            </a:r>
            <a:r>
              <a:rPr b="0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з МОНУ </a:t>
            </a:r>
            <a:r>
              <a:rPr b="0" i="1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369 від 13.03.17 року</a:t>
            </a:r>
            <a:r>
              <a:rPr b="1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затвердження Положення про інклюзивно-ресурсний центр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 12.07.2017 № 545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внесення змін до Порядку організації інклюзивного навчання у загальноосвітніх навчальних закладах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 09.08.2017 № 588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1ECD-954A-403C-AB77-7991D4E8FD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476280"/>
            <a:ext cx="8229600" cy="5649840"/>
          </a:xfrm>
          <a:prstGeom prst="rect">
            <a:avLst/>
          </a:prstGeom>
          <a:ln w="0">
            <a:noFill/>
          </a:ln>
        </p:spPr>
      </p:pic>
      <p:grpSp>
        <p:nvGrpSpPr>
          <p:cNvPr id="181" name="Прямоугольник 3"/>
          <p:cNvGrpSpPr/>
          <p:nvPr/>
        </p:nvGrpSpPr>
        <p:grpSpPr>
          <a:xfrm>
            <a:off x="396720" y="401760"/>
            <a:ext cx="8350560" cy="5767200"/>
            <a:chOff x="396720" y="401760"/>
            <a:chExt cx="8350560" cy="5767200"/>
          </a:xfrm>
        </p:grpSpPr>
        <p:pic>
          <p:nvPicPr>
            <p:cNvPr id="182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96720" y="401760"/>
              <a:ext cx="8350560" cy="576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68360" y="476280"/>
              <a:ext cx="8207280" cy="56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. 78. </a:t>
              </a:r>
              <a:r>
                <a:rPr b="1" i="1" lang="uk-UA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дагогічним  працівником</a:t>
              </a:r>
              <a:r>
                <a:rPr b="0" i="1" lang="uk-UA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uk-UA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винна  бути </a:t>
              </a:r>
              <a:r>
                <a:rPr b="1" lang="uk-UA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оба з високими моральними  якостями,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яка  має  відповідну  педагогічну   освіту, </a:t>
              </a:r>
              <a:br>
                <a:rPr sz="2800"/>
              </a:br>
              <a:r>
                <a:rPr b="1" lang="uk-UA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лежний     рівень     професійної     підготовки,     забезпечує результативність та якість своєї  роботи,  фізичний  та  психічний </a:t>
              </a:r>
              <a:br>
                <a:rPr sz="2800"/>
              </a:br>
              <a:r>
                <a:rPr b="1" lang="uk-UA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ан  здоров'я  якої  дає  змогу виконувати професійні обов'язки в </a:t>
              </a:r>
              <a:br>
                <a:rPr sz="2800"/>
              </a:br>
              <a:r>
                <a:rPr b="1" lang="uk-UA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вчальних закладах системи загальної середньої освіти</a:t>
              </a:r>
              <a:r>
                <a:rPr b="0" lang="uk-UA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3BBC-39B2-4C98-96AF-FEA4982D49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дагогічним працівником повинна бу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а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високими моральними якостями, яка має відповідну педагогічну освіту та/або професійну кваліфікацію педагогічного працівника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ежний рівень професійної підготовки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ійснює педагогічну діяльність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езпечує результативність та якість своєї роботи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ізичний та психічний стан здоров’я якої дозволяє виконувати професійні обов’язки в закладах системи загальної середньої освіт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аття 24. Педагогічні працівники  Закону «Про освіту», 2017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D9D9-2607-414A-B6AE-547F56537B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solidFill>
            <a:srgbClr val="ffffcc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. 87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ічні   працівники,   які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но  порушують 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ут,  правила внутрішнього  розпорядку  закладу,  не  виконують 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адових обов'язків,  умови трудового договору (контракту)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ами   атестації   не   відповідають   займаній    посаді, </a:t>
            </a:r>
            <a:br>
              <a:rPr sz="3200"/>
            </a:br>
            <a:r>
              <a:rPr b="1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вільняються з роботи згідно із законодавством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9350-F8EB-4533-A417-B2C575B66A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8229600" cy="4929120"/>
          </a:xfrm>
          <a:prstGeom prst="rect">
            <a:avLst/>
          </a:prstGeom>
          <a:ln w="0">
            <a:noFill/>
          </a:ln>
        </p:spPr>
      </p:pic>
      <p:grpSp>
        <p:nvGrpSpPr>
          <p:cNvPr id="191" name="Прямоугольник 3"/>
          <p:cNvGrpSpPr/>
          <p:nvPr/>
        </p:nvGrpSpPr>
        <p:grpSpPr>
          <a:xfrm>
            <a:off x="396720" y="189000"/>
            <a:ext cx="8350560" cy="1011240"/>
            <a:chOff x="396720" y="189000"/>
            <a:chExt cx="8350560" cy="1011240"/>
          </a:xfrm>
        </p:grpSpPr>
        <p:pic>
          <p:nvPicPr>
            <p:cNvPr id="192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96720" y="189000"/>
              <a:ext cx="83505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68360" y="260280"/>
              <a:ext cx="820728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. 89.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атьки учнів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та особи, які їх замінюють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c00000"/>
                  </a:solidFill>
                  <a:uFillTx/>
                  <a:latin typeface="Times New Roman"/>
                  <a:ea typeface="Times New Roman"/>
                </a:rPr>
                <a:t>мають право</a:t>
              </a:r>
              <a:r>
                <a:rPr b="0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: 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Прямоугольник 4"/>
          <p:cNvGrpSpPr/>
          <p:nvPr/>
        </p:nvGrpSpPr>
        <p:grpSpPr>
          <a:xfrm>
            <a:off x="396720" y="1195560"/>
            <a:ext cx="8350560" cy="4973400"/>
            <a:chOff x="396720" y="1195560"/>
            <a:chExt cx="8350560" cy="4973400"/>
          </a:xfrm>
        </p:grpSpPr>
        <p:pic>
          <p:nvPicPr>
            <p:cNvPr id="195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396720" y="1195560"/>
              <a:ext cx="8350560" cy="49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468360" y="1268280"/>
              <a:ext cx="8207280" cy="48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ирати навчальний  заклад  </a:t>
              </a: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  </a:t>
              </a: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орми  навчання  </a:t>
              </a: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і  виховання </a:t>
              </a:r>
              <a:br>
                <a:rPr sz="2000"/>
              </a:b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ітей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ворювати батьківські громадські організації </a:t>
              </a: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 брати участь </a:t>
              </a:r>
              <a:br>
                <a:rPr sz="2000"/>
              </a:b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їх діяльності, обирати і бути обраними до батьківських комітетів </a:t>
              </a:r>
              <a:br>
                <a:rPr sz="2000"/>
              </a:b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 органів громадського самоврядування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вертатися до органів управління освітою</a:t>
              </a: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керівника закладу і </a:t>
              </a:r>
              <a:br>
                <a:rPr sz="2000"/>
              </a:b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ів  громадського самоврядування з питань навчання,  виховання </a:t>
              </a:r>
              <a:br>
                <a:rPr sz="2000"/>
              </a:b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ітей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ймати рішення про участь дитини  </a:t>
              </a: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 науковій,  спортивній, </a:t>
              </a:r>
              <a:br>
                <a:rPr sz="2000"/>
              </a:b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удовій, пошуковій та інноваційній діяльності закладу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рати участь у заходах</a:t>
              </a: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спрямованих на поліпшення організації </a:t>
              </a:r>
              <a:br>
                <a:rPr sz="2000"/>
              </a:b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вчально-виховного  процесу  та  зміцнення  матеріально-технічної </a:t>
              </a:r>
              <a:br>
                <a:rPr sz="2000"/>
              </a:b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ази закладу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 захист  законних  інтересів  дітей  </a:t>
              </a: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органах громадського </a:t>
              </a:r>
              <a:br>
                <a:rPr sz="2000"/>
              </a:b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амоврядування  закладу  та  у  відповідних   державних,   судових </a:t>
              </a:r>
              <a:br>
                <a:rPr sz="2000"/>
              </a:b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ах. </a:t>
              </a:r>
              <a:br>
                <a:rPr sz="2000"/>
              </a:b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0AE0-D154-4604-822D-3397211B55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00" name="Прямоугольник 3"/>
          <p:cNvGrpSpPr/>
          <p:nvPr/>
        </p:nvGrpSpPr>
        <p:grpSpPr>
          <a:xfrm>
            <a:off x="396720" y="189000"/>
            <a:ext cx="8350560" cy="1298520"/>
            <a:chOff x="396720" y="189000"/>
            <a:chExt cx="8350560" cy="1298520"/>
          </a:xfrm>
        </p:grpSpPr>
        <p:pic>
          <p:nvPicPr>
            <p:cNvPr id="201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96720" y="189000"/>
              <a:ext cx="835056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468360" y="260280"/>
              <a:ext cx="820728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.  90.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атьки та особи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 які їх замінюють,  є відповідальними за </a:t>
              </a:r>
              <a:br>
                <a:rPr sz="2000"/>
              </a:b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добуття дітьми повної загальної середньої освіти,  їх виховання і </a:t>
              </a:r>
              <a:br>
                <a:rPr sz="2000"/>
              </a:br>
              <a:r>
                <a:rPr b="1" lang="ru-RU" sz="2400" spc="-1" strike="noStrike" u="sng">
                  <a:solidFill>
                    <a:srgbClr val="c00000"/>
                  </a:solidFill>
                  <a:uFillTx/>
                  <a:latin typeface="Times New Roman"/>
                  <a:ea typeface="Times New Roman"/>
                </a:rPr>
                <a:t>зобов'язані: </a:t>
              </a:r>
              <a:br>
                <a:rPr sz="20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Прямоугольник 4"/>
          <p:cNvGrpSpPr/>
          <p:nvPr/>
        </p:nvGrpSpPr>
        <p:grpSpPr>
          <a:xfrm>
            <a:off x="469800" y="1554120"/>
            <a:ext cx="8277480" cy="4614840"/>
            <a:chOff x="469800" y="1554120"/>
            <a:chExt cx="8277480" cy="4614840"/>
          </a:xfrm>
        </p:grpSpPr>
        <p:pic>
          <p:nvPicPr>
            <p:cNvPr id="204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469800" y="1554120"/>
              <a:ext cx="8277480" cy="46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539640" y="1628640"/>
              <a:ext cx="8136000" cy="446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uk-U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ворювати умови   </a:t>
              </a:r>
              <a:r>
                <a:rPr b="0" lang="uk-U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ля   здобуття  дитиною  повної  загальної середньої освіти за будь-якою формою навчання;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uk-U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безпечувати дотримання дітьми вимог </a:t>
              </a:r>
              <a:r>
                <a:rPr b="0" lang="uk-U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атуту закладу;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uk-U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важати честь і гідність дитини </a:t>
              </a:r>
              <a:r>
                <a:rPr b="0" lang="uk-U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 працівників закладу;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uk-U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стійно дбати </a:t>
              </a:r>
              <a:r>
                <a:rPr b="0" lang="uk-U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 фізичне здоров'я,  психічний  стан  дітей, створювати належні умови для розвитку їх природних здібностей;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uk-U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иховувати працелюбність</a:t>
              </a:r>
              <a:r>
                <a:rPr b="0" lang="uk-U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   почуття    доброти,   милосердя, шанобливе ставлення до Вітчизни,  сім'ї,  державної та рідної мов; повагу до національної історії, культури, цінностей інших народів;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uk-U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иховувати у дітей повагу </a:t>
              </a:r>
              <a:r>
                <a:rPr b="0" lang="uk-U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 законів,  прав,  основних свобод людини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200"/>
              </a:b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311C-B1A2-4894-86D2-3786DFC51A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8497800" cy="1353960"/>
          </a:xfrm>
          <a:prstGeom prst="rect">
            <a:avLst/>
          </a:prstGeom>
          <a:solidFill>
            <a:srgbClr val="fefac9"/>
          </a:solidFill>
          <a:ln w="9360">
            <a:solidFill>
              <a:srgbClr val="b55475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міни до Типового положення </a:t>
            </a:r>
            <a:br>
              <a:rPr sz="3200"/>
            </a:br>
            <a:r>
              <a:rPr b="1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про атестацію педагогічних працівників </a:t>
            </a:r>
            <a:br>
              <a:rPr sz="3200"/>
            </a:b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каз МОНУ від 08.08.2013 р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94920" y="1773000"/>
            <a:ext cx="8497800" cy="4352760"/>
          </a:xfrm>
          <a:prstGeom prst="rect">
            <a:avLst/>
          </a:prstGeom>
          <a:solidFill>
            <a:srgbClr val="fefac9"/>
          </a:solidFill>
          <a:ln w="9360">
            <a:solidFill>
              <a:srgbClr val="b55475"/>
            </a:solidFill>
            <a:miter/>
          </a:ln>
        </p:spPr>
        <p:txBody>
          <a:bodyPr anchor="t">
            <a:normAutofit/>
          </a:bodyPr>
          <a:p>
            <a:pPr marL="341280" indent="-34128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й наказ набирає чинності </a:t>
            </a:r>
            <a:r>
              <a:rPr b="1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 30 вересня 2013 року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 1  вересня 2017 року 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езпечити   організацію   та   проведення атестації керівників навчальних закладів,  призначених на посади до набрання чинності цим наказом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F767-6F4C-4799-9D0C-1306458BCD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solidFill>
            <a:srgbClr val="fefac9"/>
          </a:solidFill>
          <a:ln w="9360">
            <a:solidFill>
              <a:srgbClr val="b55475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тестаційною комісією враховуються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вень її  професійної  освіт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ж  роботи  на  педагогічних,  науково-педагогічних  та керівних посадах у  сфері  освіти,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лодіння  інформаційно-комунікаційними технологіям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ійні знання та навички, набуті до призначення на поса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ADA9-D844-4AB8-9146-BD8D0869FC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9360">
            <a:solidFill>
              <a:srgbClr val="b55475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  результатами  атестації керівних кадрів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чальних та інших закладів,  а також  осіб,  які  претендують  на  зайняття посади  керівників  загальноосвітніх  та  позашкільних  навчальних закладів, атестаційні комісії 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хвалюють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кі рішення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івник (заступник керівника) відповідає займаній посаді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івник (заступник керівника) відповідає займаній посаді  за умови виконання ним заходів, визначених атестаційною комісіє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івник (заступник керівника)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відповідає займаній посаді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комендувати для призначення на посаду керівника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комендувати для зарахування до кадрового резерву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35A3-E9A4-4FFD-8BA2-E928DDC367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«Про освіту», стаття 24 «Педагогічні працівники», ч.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 fontScale="91000"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ерівник державного, комунального закладу загальної середньої освіти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чається на посаду за результатами конкурсного відбору строком </a:t>
            </a:r>
            <a:r>
              <a:rPr b="1" lang="uk-UA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шість років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дна і та сама особа не може бути керівником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ого закладу загальної середньої освіти </a:t>
            </a:r>
            <a:r>
              <a:rPr b="1" lang="uk-UA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ільше ніж два строки підряд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о першого строку включається дворічний строк перебування на посаді керівника закладу загальної середньої освіти, призначеного вперше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ступник керівника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дагогічні та інші працівники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аду загальної середньої освіти 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значаються на посади та звільняються з посад керівником цього закладу.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івник закладу загальної середньої освіти має право оголосити конкурс на вакантну поса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76AD-5FA3-43E5-B798-5AF8C64CDE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естація проводиться не частіше ніж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раз на три ро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естаційна комісія на підставі всіх даних дає одну з таких оцінок професійної кваліфікації і ділових якостей працівник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ає займаній посаді або виконуваній роботі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ідповідає займаній посаді або виконуваній роботі,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овано направити на навчанн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ідповідає займаній посаді або виконуваній робот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9" name="Прямоугольник 3"/>
          <p:cNvGrpSpPr/>
          <p:nvPr/>
        </p:nvGrpSpPr>
        <p:grpSpPr>
          <a:xfrm>
            <a:off x="353880" y="139680"/>
            <a:ext cx="8436240" cy="2212920"/>
            <a:chOff x="353880" y="139680"/>
            <a:chExt cx="8436240" cy="2212920"/>
          </a:xfrm>
        </p:grpSpPr>
        <p:pic>
          <p:nvPicPr>
            <p:cNvPr id="220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353880" y="139680"/>
              <a:ext cx="8436240" cy="22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428760" y="214200"/>
              <a:ext cx="8286480" cy="20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оложення </a:t>
              </a:r>
              <a:br>
                <a:rPr sz="2400"/>
              </a:b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ро проведення атестації працівників підприємств, установ, організацій та закладів галузі культур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Наказ МКТУ від </a:t>
              </a:r>
              <a:r>
                <a:rPr b="0" lang="uk-UA" sz="2000" spc="-1" strike="noStrike">
                  <a:solidFill>
                    <a:srgbClr val="000000"/>
                  </a:solidFill>
                  <a:latin typeface="Calibri"/>
                </a:rPr>
                <a:t>16.07.2007 N 44</a:t>
              </a: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08B5-90BB-4A20-B46E-CAF2702368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af2d4"/>
          </a:solidFill>
          <a:ln w="9360">
            <a:solidFill>
              <a:srgbClr val="b55475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ціональна рамка кваліфікацій України </a:t>
            </a:r>
            <a:br>
              <a:rPr sz="2800"/>
            </a:b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вален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ою КМУ № 1341 від 23.11.2011 р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85840" y="1214280"/>
            <a:ext cx="8572320" cy="5072400"/>
          </a:xfrm>
          <a:prstGeom prst="rect">
            <a:avLst/>
          </a:prstGeom>
          <a:solidFill>
            <a:srgbClr val="faf2d4"/>
          </a:solidFill>
          <a:ln w="9360">
            <a:solidFill>
              <a:srgbClr val="b55475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ціональна рамка кваліфікацій (НРК)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 системний і структурований опис кваліфікацій, освітньо-кваліфікаційних рівнів, кваліфікаційних стандартів різних рівнів і типів, встановлених на основі визначеного законом набору критерії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основі НРК лежать професійні стандарт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есійний стандарт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 багатофункціональний нормативний документ, який в межах конкретного виду економічної діяльності </a:t>
            </a:r>
            <a:r>
              <a:rPr b="1" lang="uk-UA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значає вимоги до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істу трудової діяльності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умов її здійсненн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іфікації працівник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писаної в термінах знань, умінь, комунікацій, рівня автономності та відповідальності, компетенцій, потрібних для здійснення трудових функцій, відповідних конкретному заняттю на ринку праці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хової освіти та навчання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що є необхідними для відповідності даної кваліфікації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AA75-D2D5-405A-ADCE-96C935A659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тестація закладів осві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гідно з Законом України “Про освіту”  20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 переліку повноважень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их місцевих органів управління </a:t>
            </a:r>
            <a:r>
              <a:rPr b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ключені повноваження на проведення атестації відповідних закладів освіт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тестація закладів освіти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же не належить до повноважень відповідних органів управління і </a:t>
            </a:r>
            <a:r>
              <a:rPr b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існує як форма державного нагляду (контролю)</a:t>
            </a:r>
            <a:r>
              <a:rPr b="0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інструмент забезпечення якості осві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FC95-8A77-414A-9474-30D029DD54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 Black"/>
              </a:rPr>
              <a:t>Дякую за увагу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solidFill>
            <a:srgbClr val="faf2d4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України </a:t>
            </a:r>
            <a:br>
              <a:rPr sz="2400"/>
            </a:b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“Про засади державної мовної політики” </a:t>
            </a:r>
            <a:br>
              <a:rPr sz="2400"/>
            </a:b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5029-V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ід 05.06.2012 р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solidFill>
            <a:srgbClr val="faf2d4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тя 3. Право мовного самовизначен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ен має право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льно визначати мову, яку вважає рідною, і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ирати мову спілкування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також визнавати себе двомовним чи багатомовним і змінювати свої мовні уподобанн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ен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лежно від етнічного походження, національно-культурної самоідентифікації, місця проживання, релігійних переконань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є право вільно користуватися будь-якою мовою у суспільному та приватному житт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ивчати і підтримувати будь-яку мов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тя 5. Цілі та принципи державної мовної політ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ержавна мовна політика України базується на </a:t>
            </a:r>
            <a:r>
              <a:rPr b="1" lang="uk-UA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знанні і всебічному розвитку української мови як державної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 гарантуванні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льного розвитку регіональних мов або мов меншин, інших мов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також права мовного самовизначення і мовних уподобань кожної люди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F904-4B22-4411-9F3D-19FB829C78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fdedda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до застосування державної мови</a:t>
            </a:r>
            <a:br>
              <a:rPr sz="3200"/>
            </a:b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Лист МОН № 1/9-542 від 07.10.16 рок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3200"/>
            </a:b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solidFill>
            <a:srgbClr val="fdedda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 робочий час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вчальних закладах з навчанням українською мовою </a:t>
            </a:r>
            <a:r>
              <a:rPr b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уково-педагогічним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дагогічними працівниками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іншим персоналом використовується українська мов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вчальних закладах з навчанням мовами національних меншин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яд з українською мовою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акож </a:t>
            </a:r>
            <a:r>
              <a:rPr b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ва, якою здійснюється навчально-виховний процес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цьому заклад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70F1-27AE-4D5F-AC90-992D2750DF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а педагогічних та науково-педагогічних працівників  </a:t>
            </a:r>
            <a:br>
              <a:rPr sz="2400"/>
            </a:b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кон “Про освіту” 2017)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Arial"/>
                <a:ea typeface="Arial"/>
              </a:rPr>
              <a:t>право на академічну свободу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ючи свободу викладання, свободу від втручання в педагогічну, науково-педагогічну та наукову діяльність, вільний вибір форм, методів і засобів навчання, що відповідають освітній програмі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ступ до інформаційних ресурсів і комунікацій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що використовуються в освітньому процесі та науковій діяльності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зоплатне користування матеріально-технічними ресурсами навчального закладу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здійснення освітньої та наукової діяльності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дагогічну ініціативу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розроблення та впровадження авторських освітніх методик і технологі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хист професійної честі, гідності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індивідуальну освітню діяльність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овжену оплачувану відпустку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ржання службового житл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ідвищення кваліфікації, перепідготовку педагогічних працівників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ільний вибір освітніх програм, форм навчання, навчальних закладів, установ і організацій, що здійснюють підвищення кваліфікації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перепідготовку педагогічних працівників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Arial"/>
                <a:ea typeface="Arial"/>
              </a:rPr>
              <a:t>творчу відпустку терміном до одного року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частіше одного разу на 10 років із зарахуванням до загального і спеціального трудового стаж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8707-0997-430B-AC0E-08B9F2551E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9T09:38:20Z</dcterms:created>
  <dc:creator>MARINA</dc:creator>
  <dc:description/>
  <dc:language>en-US</dc:language>
  <cp:lastModifiedBy>Кафедра Управления</cp:lastModifiedBy>
  <dcterms:modified xsi:type="dcterms:W3CDTF">2017-11-06T08:02:52Z</dcterms:modified>
  <cp:revision>488</cp:revision>
  <dc:subject/>
  <dc:title>Слайд 1</dc:title>
</cp:coreProperties>
</file>