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B57-E46E-4D9A-AFC7-5AD59B1C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F22-A9F0-4B83-B3DA-685C0E1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838-6365-4069-852E-E0147FE7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23A-CE34-408C-A61B-E9E121BF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D04-343A-4602-A092-17B02819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BA4-47D5-4DC5-94A1-1EEBC67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16C-95ED-43FA-A4A9-16024056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E72-A53C-42B1-B097-8BBA9550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26D-4DB9-4002-8F83-F8DC19E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C9B-C1B1-4E43-AF98-8071742D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DB8-1E0B-4F05-B9A6-57ED740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61A-EC50-4DA4-8CCA-2DC15F5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78E1-6D26-45B1-A237-8117EA611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3581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Редьк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Кир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учень 11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КЗ “ХЗ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135 ім. К.Ф. Ольшанського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типендіат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Харківського міського голов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«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бдаровані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80F-878C-402F-81D7-72254B7AB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:\Users\user\Desktop\682 Редьк_н Кирило ХЗОШ_135.jpg"/>
          <p:cNvPicPr/>
          <p:nvPr/>
        </p:nvPicPr>
        <p:blipFill>
          <a:blip r:embed="rId1"/>
          <a:stretch/>
        </p:blipFill>
        <p:spPr>
          <a:xfrm>
            <a:off x="685800" y="1143000"/>
            <a:ext cx="2365200" cy="351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:\Users\user\Desktop\FB_IMG_1570975367638.jpg"/>
          <p:cNvPicPr/>
          <p:nvPr/>
        </p:nvPicPr>
        <p:blipFill>
          <a:blip r:embed="rId2"/>
          <a:stretch/>
        </p:blipFill>
        <p:spPr>
          <a:xfrm>
            <a:off x="5943600" y="4191120"/>
            <a:ext cx="2957400" cy="221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user\Desktop\FB_IMG_1572719260576.jpg"/>
          <p:cNvPicPr/>
          <p:nvPr/>
        </p:nvPicPr>
        <p:blipFill>
          <a:blip r:embed="rId3"/>
          <a:stretch/>
        </p:blipFill>
        <p:spPr>
          <a:xfrm>
            <a:off x="3505320" y="843120"/>
            <a:ext cx="5029200" cy="334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user\Desktop\FB_IMG_1573570265898.jpg"/>
          <p:cNvPicPr/>
          <p:nvPr/>
        </p:nvPicPr>
        <p:blipFill>
          <a:blip r:embed="rId4"/>
          <a:stretch/>
        </p:blipFill>
        <p:spPr>
          <a:xfrm>
            <a:off x="3352680" y="4191120"/>
            <a:ext cx="297180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ипендіат Харківської міської рад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«Кращий учень закладу осві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C:\Users\user\Desktop\684 Стрельцов Олекс_й  ХЗОШ _135.jpg"/>
          <p:cNvPicPr/>
          <p:nvPr/>
        </p:nvPicPr>
        <p:blipFill>
          <a:blip r:embed="rId1"/>
          <a:stretch/>
        </p:blipFill>
        <p:spPr>
          <a:xfrm>
            <a:off x="649440" y="990720"/>
            <a:ext cx="230796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:\Users\user\Desktop\FB_IMG_1576668094856.jpg"/>
          <p:cNvPicPr/>
          <p:nvPr/>
        </p:nvPicPr>
        <p:blipFill>
          <a:blip r:embed="rId2"/>
          <a:stretch/>
        </p:blipFill>
        <p:spPr>
          <a:xfrm>
            <a:off x="3429000" y="41148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user\Desktop\FB_IMG_1576668113232.jpg"/>
          <p:cNvPicPr/>
          <p:nvPr/>
        </p:nvPicPr>
        <p:blipFill>
          <a:blip r:embed="rId3"/>
          <a:stretch/>
        </p:blipFill>
        <p:spPr>
          <a:xfrm>
            <a:off x="3048120" y="10666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user\Desktop\IMG-d05e7d92cbf4a5aae845ac570d34f7ca-V.jpg"/>
          <p:cNvPicPr/>
          <p:nvPr/>
        </p:nvPicPr>
        <p:blipFill>
          <a:blip r:embed="rId4"/>
          <a:stretch/>
        </p:blipFill>
        <p:spPr>
          <a:xfrm>
            <a:off x="6477120" y="2133720"/>
            <a:ext cx="2485800" cy="3314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0" y="4724280"/>
            <a:ext cx="3581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рель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лекс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учень 11 кла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КЗ “ХЗ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135 ім. К.Ф. Ольшанського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23T14:04:34Z</dcterms:modified>
  <cp:revision>5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