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C713-A400-495A-880E-DE49AC00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CCBC-9EFD-49D7-9EC2-D18E8632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D9D5-60B2-4422-A3AF-558A5DD3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F34-B593-4B99-B07A-F604A15C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E480-D699-4FC6-AAD6-ECA3A1E7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EF03-6AAE-4296-9EA6-FF57060B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0756-54D4-4E63-ACA9-DE23B71D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36B-C688-4FC1-A1FD-8DBAFEA1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5577-475B-460A-B08E-0865ED31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B312-8651-41FB-AD4A-1D4EB357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4477-5D0A-4219-9724-1613B49C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9484-51E0-443E-BECB-0A340357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8180-BAEB-44C1-B8E5-60ACF36DF2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4723920"/>
            <a:ext cx="35812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Редькі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Кири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333399"/>
                </a:solidFill>
                <a:latin typeface="Arial"/>
              </a:rPr>
              <a:t>учень 11 кла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333399"/>
                </a:solidFill>
                <a:latin typeface="Arial"/>
              </a:rPr>
              <a:t>КЗ “ХЗО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i="1" lang="uk-UA" sz="1600" spc="-1" strike="noStrike">
                <a:solidFill>
                  <a:srgbClr val="333399"/>
                </a:solidFill>
                <a:latin typeface="Arial"/>
              </a:rPr>
              <a:t>135 ім. К.Ф. Ольшанського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2"/>
          <p:cNvSpPr/>
          <p:nvPr/>
        </p:nvSpPr>
        <p:spPr>
          <a:xfrm>
            <a:off x="3143160" y="2000160"/>
            <a:ext cx="2857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типендіат</a:t>
            </a: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Харківського міського голови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«</a:t>
            </a: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Обдаровані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D02F-6F03-4A10-B3AC-BF65DA6530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C:\Users\user\Desktop\682 Редьк_н Кирило ХЗОШ_135.jpg"/>
          <p:cNvPicPr/>
          <p:nvPr/>
        </p:nvPicPr>
        <p:blipFill>
          <a:blip r:embed="rId1"/>
          <a:stretch/>
        </p:blipFill>
        <p:spPr>
          <a:xfrm>
            <a:off x="685800" y="1143000"/>
            <a:ext cx="2365200" cy="3513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C:\Users\user\Desktop\FB_IMG_1570975367638.jpg"/>
          <p:cNvPicPr/>
          <p:nvPr/>
        </p:nvPicPr>
        <p:blipFill>
          <a:blip r:embed="rId2"/>
          <a:stretch/>
        </p:blipFill>
        <p:spPr>
          <a:xfrm>
            <a:off x="5943600" y="4191120"/>
            <a:ext cx="2957400" cy="221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C:\Users\user\Desktop\FB_IMG_1572719260576.jpg"/>
          <p:cNvPicPr/>
          <p:nvPr/>
        </p:nvPicPr>
        <p:blipFill>
          <a:blip r:embed="rId3"/>
          <a:stretch/>
        </p:blipFill>
        <p:spPr>
          <a:xfrm>
            <a:off x="3505320" y="843120"/>
            <a:ext cx="5029200" cy="3346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C:\Users\user\Desktop\FB_IMG_1573570265898.jpg"/>
          <p:cNvPicPr/>
          <p:nvPr/>
        </p:nvPicPr>
        <p:blipFill>
          <a:blip r:embed="rId4"/>
          <a:stretch/>
        </p:blipFill>
        <p:spPr>
          <a:xfrm>
            <a:off x="3352680" y="4191120"/>
            <a:ext cx="2971800" cy="21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Стипендіат Харківської міської ради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                   «Кращий учень закладу осві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C:\Users\user\Desktop\684 Стрельцов Олекс_й  ХЗОШ _135.jpg"/>
          <p:cNvPicPr/>
          <p:nvPr/>
        </p:nvPicPr>
        <p:blipFill>
          <a:blip r:embed="rId1"/>
          <a:stretch/>
        </p:blipFill>
        <p:spPr>
          <a:xfrm>
            <a:off x="649440" y="990720"/>
            <a:ext cx="230796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C:\Users\user\Desktop\FB_IMG_1576668094856.jpg"/>
          <p:cNvPicPr/>
          <p:nvPr/>
        </p:nvPicPr>
        <p:blipFill>
          <a:blip r:embed="rId2"/>
          <a:stretch/>
        </p:blipFill>
        <p:spPr>
          <a:xfrm>
            <a:off x="3429000" y="411480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C:\Users\user\Desktop\FB_IMG_1576668113232.jpg"/>
          <p:cNvPicPr/>
          <p:nvPr/>
        </p:nvPicPr>
        <p:blipFill>
          <a:blip r:embed="rId3"/>
          <a:stretch/>
        </p:blipFill>
        <p:spPr>
          <a:xfrm>
            <a:off x="3048120" y="106668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C:\Users\user\Desktop\IMG-d05e7d92cbf4a5aae845ac570d34f7ca-V.jpg"/>
          <p:cNvPicPr/>
          <p:nvPr/>
        </p:nvPicPr>
        <p:blipFill>
          <a:blip r:embed="rId4"/>
          <a:stretch/>
        </p:blipFill>
        <p:spPr>
          <a:xfrm>
            <a:off x="6477120" y="2133720"/>
            <a:ext cx="2485800" cy="33145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0" y="4724280"/>
            <a:ext cx="35812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Стрель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Олексі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333399"/>
                </a:solidFill>
                <a:latin typeface="Arial"/>
              </a:rPr>
              <a:t>учень 11 клас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333399"/>
                </a:solidFill>
                <a:latin typeface="Arial"/>
              </a:rPr>
              <a:t>КЗ “ХЗО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i="1" lang="uk-UA" sz="1600" spc="-1" strike="noStrike">
                <a:solidFill>
                  <a:srgbClr val="333399"/>
                </a:solidFill>
                <a:latin typeface="Arial"/>
              </a:rPr>
              <a:t>135 ім. К.Ф. Ольшанського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12-23T14:04:34Z</dcterms:modified>
  <cp:revision>5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