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5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3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54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7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8F6-8CB4-43F7-B1A3-BCFE0D5B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6172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412960"/>
            <a:ext cx="6172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D8CA-E979-47A4-A7AA-AE1DE19E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41296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41296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B33-E3E1-461E-8F7D-CC3AA8EF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72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72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41296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41296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41296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ACF8-A100-4719-B493-A0BB6D18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B059-BB55-4AFB-90E6-4CBF80DB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720"/>
            <a:ext cx="6172200" cy="62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3FDE-F163-42D3-BE53-D24CD7C0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61722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BAFC-8556-49A6-A8D9-03ABC828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1176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720"/>
            <a:ext cx="301176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2386-43EB-4819-A53E-DD6AD555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65D5-A363-4B83-9BEB-FED3AD16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847C-0322-405E-8C95-A8E6737E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720"/>
            <a:ext cx="301176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41296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CF00-2EC0-4BD0-9C3F-9CA5EA2F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720"/>
            <a:ext cx="6172200" cy="62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083-CD99-4BEC-BE68-8BD45FA1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1176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41296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879A-AFD3-4469-97E3-D6C9085C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412960"/>
            <a:ext cx="6172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3FEB-46C2-4F17-B6CF-FC64A316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6172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412960"/>
            <a:ext cx="6172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D699-140C-4370-A1D9-F44112A0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41296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41296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6B9E-A8C7-4362-9C95-AB79F2D6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72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72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41296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41296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412960"/>
            <a:ext cx="1987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4089-C88A-43F5-B4BC-8A3FD3FB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61722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CDC9-1D2C-4404-B8A3-6800B8AB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1176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720"/>
            <a:ext cx="301176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48B-3E98-497B-A170-C01202BB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B87-9999-491F-AFD4-5A55ED09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14C5-98D1-4D0C-859B-97A07D3C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720"/>
            <a:ext cx="301176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41296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964-1A09-452F-B106-59B6E4C4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1176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41296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4B7A-E671-4A8F-8108-3803E330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720"/>
            <a:ext cx="301176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412960"/>
            <a:ext cx="6172200" cy="29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84E-BB2E-4A80-88A4-9F1ABAFA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720"/>
            <a:ext cx="61722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55504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55504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943600" y="855504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18D5-B149-4372-B1D1-9D7464E9023E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133720"/>
            <a:ext cx="61722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55504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55504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943600" y="855504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9F4B-A7F0-4647-8AEE-FBC55FC96B3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23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96840" y="1639800"/>
            <a:ext cx="695628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4" descr="C:\Documents and Settings\Владелец\Local Settings\Temporary Internet Files\Content.Word\SAM_0321.jpg"/>
          <p:cNvPicPr/>
          <p:nvPr/>
        </p:nvPicPr>
        <p:blipFill>
          <a:blip r:embed="rId2"/>
          <a:stretch/>
        </p:blipFill>
        <p:spPr>
          <a:xfrm>
            <a:off x="428760" y="6072120"/>
            <a:ext cx="6143400" cy="2643120"/>
          </a:xfrm>
          <a:prstGeom prst="rect">
            <a:avLst/>
          </a:prstGeom>
          <a:ln w="0">
            <a:noFill/>
          </a:ln>
        </p:spPr>
      </p:pic>
      <p:pic>
        <p:nvPicPr>
          <p:cNvPr id="135" name="Заголовок 1" descr=""/>
          <p:cNvPicPr/>
          <p:nvPr/>
        </p:nvPicPr>
        <p:blipFill>
          <a:blip r:embed="rId3"/>
          <a:stretch/>
        </p:blipFill>
        <p:spPr>
          <a:xfrm>
            <a:off x="139680" y="304920"/>
            <a:ext cx="6669000" cy="1590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343080" y="1857240"/>
            <a:ext cx="6086160" cy="65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44061"/>
                </a:solidFill>
                <a:latin typeface="Comic Sans MS"/>
                <a:ea typeface="Times New Roman"/>
              </a:rPr>
              <a:t>Лист МИР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82971"/>
                </a:solidFill>
                <a:latin typeface="Comic Sans MS"/>
                <a:ea typeface="Times New Roman"/>
              </a:rPr>
              <a:t>Що для мене мир</a:t>
            </a:r>
            <a:r>
              <a:rPr b="1" lang="ru-RU" sz="1800" spc="-1" strike="noStrike">
                <a:solidFill>
                  <a:srgbClr val="382971"/>
                </a:solidFill>
                <a:latin typeface="Comic Sans MS"/>
                <a:ea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244061"/>
                </a:solidFill>
                <a:latin typeface="Comic Sans MS"/>
                <a:ea typeface="Times New Roman"/>
              </a:rPr>
              <a:t>Мир дуже важлива річ. Мир-ц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244061"/>
                </a:solidFill>
                <a:latin typeface="Comic Sans MS"/>
                <a:ea typeface="Times New Roman"/>
              </a:rPr>
              <a:t>не просто відсутність війни,це взаєморозуміння,поваг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244061"/>
                </a:solidFill>
                <a:latin typeface="Comic Sans MS"/>
                <a:ea typeface="Times New Roman"/>
              </a:rPr>
              <a:t>відсутність конфліктів,сварок. Мир повинен бути всюди</a:t>
            </a:r>
            <a:r>
              <a:rPr b="0" lang="ru-RU" sz="1800" spc="-1" strike="noStrike">
                <a:solidFill>
                  <a:srgbClr val="244061"/>
                </a:solidFill>
                <a:latin typeface="Comic Sans MS"/>
                <a:ea typeface="Times New Roman"/>
              </a:rPr>
              <a:t>:</a:t>
            </a:r>
            <a:r>
              <a:rPr b="0" lang="uk-UA" sz="1800" spc="-1" strike="noStrike">
                <a:solidFill>
                  <a:srgbClr val="244061"/>
                </a:solidFill>
                <a:latin typeface="Comic Sans MS"/>
                <a:ea typeface="Times New Roman"/>
              </a:rPr>
              <a:t>у країні,у колективі,у родині,на роботі. Коли мир є,то немає причин для брехні,зневаги,образи. У мирний час люди живуть своїм життям,почуваються вільними,потрібними,спокійними. Та не можна зрозуміти цінність миру,доки людину не застане така жахлива річ,як війна. Вона нищить все,приносить великі втрати,спричинює страждання для всіх. І йдеться навіть не про матеріальну шкоду,а про людські життя. Численні людські життя,що війна забирає кожної години,кожної хвилини,кожної секунди. Наскільки жорстокою є людина,що може безжально і безсоромно губити сотні людей. Навіщо нищити те,що колись самі будували</a:t>
            </a:r>
            <a:r>
              <a:rPr b="0" lang="ru-RU" sz="1800" spc="-1" strike="noStrike">
                <a:solidFill>
                  <a:srgbClr val="244061"/>
                </a:solidFill>
                <a:latin typeface="Comic Sans MS"/>
                <a:ea typeface="Times New Roman"/>
              </a:rPr>
              <a:t>?</a:t>
            </a:r>
            <a:br>
              <a:rPr sz="1800"/>
            </a:br>
            <a:r>
              <a:rPr b="0" lang="uk-UA" sz="1800" spc="-1" strike="noStrike">
                <a:solidFill>
                  <a:srgbClr val="244061"/>
                </a:solidFill>
                <a:latin typeface="Comic Sans MS"/>
                <a:ea typeface="Times New Roman"/>
              </a:rPr>
              <a:t>Якщо люди будуть розуміти,що таке мир,то створять його,бо усвідомлять його справжню цінність</a:t>
            </a:r>
            <a:r>
              <a:rPr b="0" lang="uk-UA" sz="1800" spc="-1" strike="noStrike">
                <a:solidFill>
                  <a:srgbClr val="244061"/>
                </a:solidFill>
                <a:latin typeface="Calibri"/>
                <a:ea typeface="Times New Roman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82971"/>
                </a:solidFill>
                <a:latin typeface="Comic Sans MS"/>
                <a:ea typeface="Times New Roman"/>
              </a:rPr>
              <a:t>Мир не кров</a:t>
            </a:r>
            <a:r>
              <a:rPr b="1" lang="uk-UA" sz="1800" spc="-1" strike="noStrike">
                <a:solidFill>
                  <a:srgbClr val="382971"/>
                </a:solidFill>
                <a:latin typeface="Calibri"/>
                <a:ea typeface="Times New Roman"/>
              </a:rPr>
              <a:t>’</a:t>
            </a:r>
            <a:r>
              <a:rPr b="1" lang="uk-UA" sz="1800" spc="-1" strike="noStrike">
                <a:solidFill>
                  <a:srgbClr val="382971"/>
                </a:solidFill>
                <a:latin typeface="Comic Sans MS"/>
                <a:ea typeface="Times New Roman"/>
              </a:rPr>
              <a:t>ю, а дружбою та любов</a:t>
            </a:r>
            <a:r>
              <a:rPr b="1" lang="ru-RU" sz="1800" spc="-1" strike="noStrike">
                <a:solidFill>
                  <a:srgbClr val="382971"/>
                </a:solidFill>
                <a:latin typeface="Comic Sans MS"/>
                <a:ea typeface="Times New Roman"/>
              </a:rPr>
              <a:t>`</a:t>
            </a:r>
            <a:r>
              <a:rPr b="1" lang="uk-UA" sz="1800" spc="-1" strike="noStrike">
                <a:solidFill>
                  <a:srgbClr val="382971"/>
                </a:solidFill>
                <a:latin typeface="Comic Sans MS"/>
                <a:ea typeface="Times New Roman"/>
              </a:rPr>
              <a:t>ю</a:t>
            </a:r>
            <a:r>
              <a:rPr b="1" lang="uk-UA" sz="1800" spc="-1" strike="noStrike">
                <a:solidFill>
                  <a:srgbClr val="382971"/>
                </a:solidFill>
                <a:latin typeface="Calibri"/>
                <a:ea typeface="Times New Roman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Рисунок 3" descr="/Files/images/герб.JPG"/>
          <p:cNvPicPr/>
          <p:nvPr/>
        </p:nvPicPr>
        <p:blipFill>
          <a:blip r:embed="rId4"/>
          <a:stretch/>
        </p:blipFill>
        <p:spPr>
          <a:xfrm>
            <a:off x="5357880" y="1785960"/>
            <a:ext cx="11714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1" descr=""/>
          <p:cNvPicPr/>
          <p:nvPr/>
        </p:nvPicPr>
        <p:blipFill>
          <a:blip r:embed="rId2"/>
          <a:stretch/>
        </p:blipFill>
        <p:spPr>
          <a:xfrm>
            <a:off x="139680" y="304920"/>
            <a:ext cx="6669000" cy="15904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SAM_1040"/>
          <p:cNvPicPr/>
          <p:nvPr/>
        </p:nvPicPr>
        <p:blipFill>
          <a:blip r:embed="rId3"/>
          <a:stretch/>
        </p:blipFill>
        <p:spPr>
          <a:xfrm>
            <a:off x="3714840" y="1857240"/>
            <a:ext cx="2000160" cy="26654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SAM_1037"/>
          <p:cNvPicPr/>
          <p:nvPr/>
        </p:nvPicPr>
        <p:blipFill>
          <a:blip r:embed="rId4"/>
          <a:stretch/>
        </p:blipFill>
        <p:spPr>
          <a:xfrm>
            <a:off x="714240" y="221472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57120" y="4451400"/>
            <a:ext cx="28576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Вже традиційними стали в нашій школі акції «Голуб миру» та «Лист солдату», на початку навчального року вже не вперше  учні виготовляють своїми руками голубів, малюють малюнки, пишуть листи, які надсилаються воїнам АТО.</a:t>
            </a:r>
            <a:r>
              <a:rPr b="0" lang="ru-RU" sz="1600" spc="-1" strike="noStrike">
                <a:solidFill>
                  <a:srgbClr val="002060"/>
                </a:solidFill>
                <a:latin typeface="Comic Sans MS"/>
              </a:rPr>
              <a:t> Учні школи взяли участь у Міжнародному проекті "Діти за мир у всьому світі", ініційованому посольствомУгорщини в Україні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Рисунок 8" descr="D:\настя\Папка педагога организатора\Фотоотчет\Портфолио 2015\2015-2016\SAM_1035.JPG"/>
          <p:cNvPicPr/>
          <p:nvPr/>
        </p:nvPicPr>
        <p:blipFill>
          <a:blip r:embed="rId5"/>
          <a:stretch/>
        </p:blipFill>
        <p:spPr>
          <a:xfrm>
            <a:off x="3286080" y="4071960"/>
            <a:ext cx="2857680" cy="21700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8" descr="D:\настя\Папка педагога организатора\Фотоотчет\Портфолио 2015\2015-2016\5YE4jGjL990.jpg"/>
          <p:cNvPicPr/>
          <p:nvPr/>
        </p:nvPicPr>
        <p:blipFill>
          <a:blip r:embed="rId6"/>
          <a:stretch/>
        </p:blipFill>
        <p:spPr>
          <a:xfrm>
            <a:off x="3143160" y="6072120"/>
            <a:ext cx="32464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2"/>
          <a:stretch/>
        </p:blipFill>
        <p:spPr>
          <a:xfrm>
            <a:off x="139680" y="304920"/>
            <a:ext cx="6669000" cy="1590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3500280" y="1725120"/>
            <a:ext cx="2571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В школі стало традицією проведення  «Свята вишиванки». В цьому  році свято провели спільно з вихованцями дошкільного закладу №27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Рисунок 4" descr="D:\фото школьные\свято вишиванки\SAM_0742.JPG"/>
          <p:cNvPicPr/>
          <p:nvPr/>
        </p:nvPicPr>
        <p:blipFill>
          <a:blip r:embed="rId3"/>
          <a:stretch/>
        </p:blipFill>
        <p:spPr>
          <a:xfrm>
            <a:off x="642960" y="171468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5" descr="D:\фото школьные\свято вишиванки\SAM_0749.JPG"/>
          <p:cNvPicPr/>
          <p:nvPr/>
        </p:nvPicPr>
        <p:blipFill>
          <a:blip r:embed="rId4"/>
          <a:stretch/>
        </p:blipFill>
        <p:spPr>
          <a:xfrm>
            <a:off x="1000080" y="3786120"/>
            <a:ext cx="2781360" cy="2295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D:\настя\Папка педагога организатора\Фотоотчет\Портфолио 2015\2015-2016\20151016_144958.jpg"/>
          <p:cNvPicPr/>
          <p:nvPr/>
        </p:nvPicPr>
        <p:blipFill>
          <a:blip r:embed="rId5"/>
          <a:stretch/>
        </p:blipFill>
        <p:spPr>
          <a:xfrm>
            <a:off x="4286160" y="6000840"/>
            <a:ext cx="1928880" cy="25718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кутник 7"/>
          <p:cNvSpPr/>
          <p:nvPr/>
        </p:nvSpPr>
        <p:spPr>
          <a:xfrm>
            <a:off x="500040" y="6143760"/>
            <a:ext cx="40006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mic Sans MS"/>
              </a:rPr>
              <a:t>Учні школи взяли участь в фотоконкурсі "Улюблений Харків", де представили свої роботи в двох номінаціях "Сімейний альбом Харкова" та "Мій Харків". Роботи Забахідзе Катерини посіли 2 місце в номінайії "Сімейний альбом Харкова", а Михайло Жарко отримав приз, як наймолодший учасник конкурсу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3" descr="D:\настя\Папка педагога организатора\Фотоотчет\Портфолио 2015\2015-2016\20151016_144733.jpg"/>
          <p:cNvPicPr/>
          <p:nvPr/>
        </p:nvPicPr>
        <p:blipFill>
          <a:blip r:embed="rId6"/>
          <a:stretch/>
        </p:blipFill>
        <p:spPr>
          <a:xfrm>
            <a:off x="3786120" y="4000680"/>
            <a:ext cx="2621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2"/>
          <a:stretch/>
        </p:blipFill>
        <p:spPr>
          <a:xfrm>
            <a:off x="334800" y="360360"/>
            <a:ext cx="6231240" cy="15350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Прямокутник 5"/>
          <p:cNvSpPr/>
          <p:nvPr/>
        </p:nvSpPr>
        <p:spPr>
          <a:xfrm>
            <a:off x="500040" y="1643040"/>
            <a:ext cx="307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mic Sans MS"/>
              </a:rPr>
              <a:t>У лютому 2016р. в школі була проведена акція "Кришечка - допоможе солдату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D:\настя\Папка педагога организатора\Фотоотчет\Портфолио 2015\2015-2016\fil_katalog2.JPG"/>
          <p:cNvPicPr/>
          <p:nvPr/>
        </p:nvPicPr>
        <p:blipFill>
          <a:blip r:embed="rId3"/>
          <a:stretch/>
        </p:blipFill>
        <p:spPr>
          <a:xfrm>
            <a:off x="3357720" y="2071800"/>
            <a:ext cx="3058920" cy="2038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D:\настя\Папка педагога организатора\Фотоотчет\Портфолио 2015\2015-2016\20150921_105547.jpg"/>
          <p:cNvPicPr/>
          <p:nvPr/>
        </p:nvPicPr>
        <p:blipFill>
          <a:blip r:embed="rId4"/>
          <a:stretch/>
        </p:blipFill>
        <p:spPr>
          <a:xfrm>
            <a:off x="785880" y="3357720"/>
            <a:ext cx="2357280" cy="1765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D:\настя\Папка педагога организатора\Фотоотчет\Портфолио 2015\2015-2016\IMG_6726.JPG"/>
          <p:cNvPicPr/>
          <p:nvPr/>
        </p:nvPicPr>
        <p:blipFill>
          <a:blip r:embed="rId5"/>
          <a:stretch/>
        </p:blipFill>
        <p:spPr>
          <a:xfrm>
            <a:off x="3500280" y="4357800"/>
            <a:ext cx="2570400" cy="1923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D:\настя\Папка педагога организатора\Фотоотчет\Портфолио 2015\2015-2016\IMG_6723.JPG"/>
          <p:cNvPicPr/>
          <p:nvPr/>
        </p:nvPicPr>
        <p:blipFill>
          <a:blip r:embed="rId6"/>
          <a:stretch/>
        </p:blipFill>
        <p:spPr>
          <a:xfrm>
            <a:off x="3357720" y="6286680"/>
            <a:ext cx="3047760" cy="228096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кутник 10"/>
          <p:cNvSpPr/>
          <p:nvPr/>
        </p:nvSpPr>
        <p:spPr>
          <a:xfrm>
            <a:off x="357120" y="5000760"/>
            <a:ext cx="30006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mic Sans MS"/>
              </a:rPr>
              <a:t>Представники шкільної організації ШІМ подарували дитячому будинку змішаного типу обласного підпорядкування, зібрані учнями школи канцтовари та розвиваючі ігр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Заголовок 1" descr=""/>
          <p:cNvPicPr/>
          <p:nvPr/>
        </p:nvPicPr>
        <p:blipFill>
          <a:blip r:embed="rId2"/>
          <a:stretch/>
        </p:blipFill>
        <p:spPr>
          <a:xfrm>
            <a:off x="334800" y="360360"/>
            <a:ext cx="6231240" cy="15350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1000080" y="164304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mic Sans MS"/>
              </a:rPr>
              <a:t>Учні школи зібрали новорічні подарунки  для  дітей пільгового контингенту школи на честь свята Святого Микол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2" descr="D:\настя\Папка педагога организатора\Фотоотчет\Портфолио 2015\2015-2016\1305331_20100904195926.gif"/>
          <p:cNvPicPr/>
          <p:nvPr/>
        </p:nvPicPr>
        <p:blipFill>
          <a:blip r:embed="rId3"/>
          <a:stretch/>
        </p:blipFill>
        <p:spPr>
          <a:xfrm>
            <a:off x="3143160" y="17146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3429000" y="4429080"/>
            <a:ext cx="264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Учні школи провели благодійну лотерею та солодкий ярмарок, на отримані кошти було придбано подарунок для бійців з зони АТ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3" descr="D:\настя\Папка педагога организатора\Фотоотчет\Портфолио 2015\2015-2016\SAM_1742 (2).JPG"/>
          <p:cNvPicPr/>
          <p:nvPr/>
        </p:nvPicPr>
        <p:blipFill>
          <a:blip r:embed="rId4"/>
          <a:stretch/>
        </p:blipFill>
        <p:spPr>
          <a:xfrm>
            <a:off x="857160" y="4071960"/>
            <a:ext cx="2671920" cy="2000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D:\настя\Папка педагога организатора\Фотоотчет\Портфолио 2015\2015-2016\SAM_1731 (1).JPG"/>
          <p:cNvPicPr/>
          <p:nvPr/>
        </p:nvPicPr>
        <p:blipFill>
          <a:blip r:embed="rId5"/>
          <a:stretch/>
        </p:blipFill>
        <p:spPr>
          <a:xfrm>
            <a:off x="714240" y="6143760"/>
            <a:ext cx="3143520" cy="2352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D:\настя\Папка педагога организатора\Фотоотчет\Портфолио 2015\2015-2016\12_b.jpg"/>
          <p:cNvPicPr/>
          <p:nvPr/>
        </p:nvPicPr>
        <p:blipFill>
          <a:blip r:embed="rId6"/>
          <a:stretch/>
        </p:blipFill>
        <p:spPr>
          <a:xfrm>
            <a:off x="3786120" y="6429240"/>
            <a:ext cx="25592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571680" y="71424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689a6"/>
                </a:solidFill>
                <a:latin typeface="Comic Sans MS"/>
              </a:rPr>
              <a:t>Навчальні досягнення учні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500040" y="1253880"/>
            <a:ext cx="6000840" cy="73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af9738"/>
                </a:solidFill>
                <a:latin typeface="Comic Sans MS"/>
                <a:ea typeface="Times New Roman"/>
              </a:rPr>
              <a:t>        </a:t>
            </a:r>
            <a:r>
              <a:rPr b="1" lang="uk-UA" sz="1200" spc="-1" strike="noStrike">
                <a:solidFill>
                  <a:srgbClr val="af9738"/>
                </a:solidFill>
                <a:latin typeface="Comic Sans MS"/>
                <a:ea typeface="Times New Roman"/>
              </a:rPr>
              <a:t>Учні школи, переможці І етапу олімпіад чи конкурсів, брали участь у ІІ етапах змагань та посіли призові місц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ceb966"/>
                </a:solidFill>
                <a:latin typeface="Comic Sans MS"/>
                <a:ea typeface="Times New Roman"/>
              </a:rPr>
              <a:t>Валуйська Г. (5-А клас) посіла ІІІ  місце в районному  етапі  Міжнародного мовно-літературного конкурсу учнівської та студентської молоді імені Тараса Шевченка (вчитель Леонідова Л.Б.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ceb966"/>
                </a:solidFill>
                <a:latin typeface="Comic Sans MS"/>
                <a:ea typeface="Times New Roman"/>
              </a:rPr>
              <a:t>Слатін М. (9-А клас) посів ІІІ місце в районному етапі олімпіади з інформаційних технологій (вчитель Поляк М.О.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ceb966"/>
                </a:solidFill>
                <a:latin typeface="Comic Sans MS"/>
                <a:ea typeface="Times New Roman"/>
              </a:rPr>
              <a:t>Плотнікова А. ( 9-А клас), Коломійцева М.(9-А клас) посіли ІІ місце в районному етапі олімпіади з трудового навчання (вчитель Рябокінь А.О.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ceb966"/>
                </a:solidFill>
                <a:latin typeface="Comic Sans MS"/>
                <a:ea typeface="Times New Roman"/>
              </a:rPr>
              <a:t>Надьожкіна Д. (11-А клас), Пахомова А.(11-А клас) посіли ІІІ  місце в районному етапі олімпіади з технологій (трудове навчання) (вчитель Рябокінь А.О.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ceb966"/>
                </a:solidFill>
                <a:latin typeface="Comic Sans MS"/>
                <a:ea typeface="Times New Roman"/>
              </a:rPr>
              <a:t>Стрельцов О.(7-А клас) посів І місце, Максименко А. (7-А клас) посіла ІІІ місце  в районному етапі олімпіади з хімії (вчитель Нездийминога Т.І.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ceb966"/>
                </a:solidFill>
                <a:latin typeface="Comic Sans MS"/>
                <a:ea typeface="Times New Roman"/>
              </a:rPr>
              <a:t>Стрельцов О.(7-А клас) посів ІІІ місце в районному етапі олімпіади з фізики ( вчитель Несен Л.В.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ceb966"/>
                </a:solidFill>
                <a:latin typeface="Comic Sans MS"/>
                <a:ea typeface="Times New Roman"/>
              </a:rPr>
              <a:t>Плотнікова А.(9-А клас) посіла ІІІ місце в районному етапі олімпіади з біології (вчитель Лебедєва С.В.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ceb966"/>
                </a:solidFill>
                <a:latin typeface="Comic Sans MS"/>
                <a:ea typeface="Times New Roman"/>
              </a:rPr>
              <a:t>Козакевич Є. (6-А клас) посів ІІІ місце у конкурсі творчих робіт „Мій родовід” (вчитель   Редькіна А.С.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2"/>
          <a:stretch/>
        </p:blipFill>
        <p:spPr>
          <a:xfrm>
            <a:off x="333360" y="395280"/>
            <a:ext cx="6188040" cy="15350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857160" y="1143000"/>
            <a:ext cx="5500800" cy="9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Стипендією</a:t>
            </a:r>
            <a:r>
              <a:rPr b="1" lang="uk-UA" sz="1800" spc="-1" strike="noStrike">
                <a:solidFill>
                  <a:srgbClr val="ceb966"/>
                </a:solidFill>
                <a:latin typeface="Comic Sans MS"/>
              </a:rPr>
              <a:t> </a:t>
            </a: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Харківської міської ради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«Кращий учень навчального закладу нагороджено ученицю 11-А клас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Сотнікову Анастасі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Стипендіє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Народного депутата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України В.В. Писарен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«Гордість Дзержинськ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 </a:t>
            </a: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району»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 </a:t>
            </a: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нагороджено учн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7 –А клас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 </a:t>
            </a:r>
            <a:r>
              <a:rPr b="0" lang="uk-UA" sz="1800" spc="-1" strike="noStrike">
                <a:solidFill>
                  <a:srgbClr val="ceb966"/>
                </a:solidFill>
                <a:latin typeface="Comic Sans MS"/>
              </a:rPr>
              <a:t>Просянника Микиту</a:t>
            </a: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C:\Documents and Settings\user\Рабочий стол\n_Uzj8qTo7k.jpg"/>
          <p:cNvPicPr/>
          <p:nvPr/>
        </p:nvPicPr>
        <p:blipFill>
          <a:blip r:embed="rId3"/>
          <a:stretch/>
        </p:blipFill>
        <p:spPr>
          <a:xfrm>
            <a:off x="1928880" y="235728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user\Рабочий стол\yF1yhMJwj3s.jpg"/>
          <p:cNvPicPr/>
          <p:nvPr/>
        </p:nvPicPr>
        <p:blipFill>
          <a:blip r:embed="rId4"/>
          <a:stretch/>
        </p:blipFill>
        <p:spPr>
          <a:xfrm>
            <a:off x="857160" y="5214960"/>
            <a:ext cx="23576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334800" y="847800"/>
            <a:ext cx="6315120" cy="706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0" y="2714400"/>
            <a:ext cx="550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Times New Roman"/>
              </a:rPr>
              <a:t>24.12.2015</a:t>
            </a:r>
            <a:r>
              <a:rPr b="0" lang="uk-UA" sz="1800" spc="-1" strike="noStrike">
                <a:solidFill>
                  <a:srgbClr val="002060"/>
                </a:solidFill>
                <a:latin typeface="Times New Roman"/>
              </a:rPr>
              <a:t> було проведено теоретично- практичне заняття „Використання інформаційних технологій у роботі вчителя фізичної культури” для вчителів фізичної культур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Times New Roman"/>
              </a:rPr>
              <a:t>(Ігнатьєв С.Б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571680" y="1500120"/>
            <a:ext cx="55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Times New Roman"/>
              </a:rPr>
              <a:t>16.10.2015</a:t>
            </a:r>
            <a:r>
              <a:rPr b="0" lang="uk-UA" sz="1800" spc="-1" strike="noStrike">
                <a:solidFill>
                  <a:srgbClr val="002060"/>
                </a:solidFill>
                <a:latin typeface="Times New Roman"/>
              </a:rPr>
              <a:t> було проведено семінар-практикум з патріотичного виховання «З Україною в серці» для вчителів початкових класі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D:\настя\Папка педагога организатора\Фотоотчет\Портфолио 2015\2015-2016\1.jpg"/>
          <p:cNvPicPr/>
          <p:nvPr/>
        </p:nvPicPr>
        <p:blipFill>
          <a:blip r:embed="rId3"/>
          <a:stretch/>
        </p:blipFill>
        <p:spPr>
          <a:xfrm>
            <a:off x="571680" y="2714760"/>
            <a:ext cx="3057480" cy="2103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:\настя\Папка педагога организатора\Фотоотчет\Портфолио 2015\2015-2016\5.jpg"/>
          <p:cNvPicPr/>
          <p:nvPr/>
        </p:nvPicPr>
        <p:blipFill>
          <a:blip r:embed="rId4"/>
          <a:stretch/>
        </p:blipFill>
        <p:spPr>
          <a:xfrm>
            <a:off x="3714840" y="2428920"/>
            <a:ext cx="2571840" cy="26575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9" descr="D:\настя\Папка педагога организатора\Фотоотчет\Портфолио 2015\2015-2016\IMG_20151224_160537.jpg"/>
          <p:cNvPicPr/>
          <p:nvPr/>
        </p:nvPicPr>
        <p:blipFill>
          <a:blip r:embed="rId5"/>
          <a:stretch/>
        </p:blipFill>
        <p:spPr>
          <a:xfrm>
            <a:off x="857160" y="6643800"/>
            <a:ext cx="2643120" cy="18572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D:\настя\Папка педагога организатора\Фотоотчет\Портфолио 2015\2015-2016\IMG_20151224_160414.jpg"/>
          <p:cNvPicPr/>
          <p:nvPr/>
        </p:nvPicPr>
        <p:blipFill>
          <a:blip r:embed="rId6"/>
          <a:stretch/>
        </p:blipFill>
        <p:spPr>
          <a:xfrm>
            <a:off x="3643200" y="6286680"/>
            <a:ext cx="25718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3643200" y="135720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97" name="Заголовок 1" descr=""/>
          <p:cNvPicPr/>
          <p:nvPr/>
        </p:nvPicPr>
        <p:blipFill>
          <a:blip r:embed="rId3"/>
          <a:stretch/>
        </p:blipFill>
        <p:spPr>
          <a:xfrm>
            <a:off x="360360" y="281160"/>
            <a:ext cx="6229440" cy="931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42720" y="4357440"/>
            <a:ext cx="5157720" cy="40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Times New Roman"/>
              </a:rPr>
              <a:t>           </a:t>
            </a:r>
            <a:r>
              <a:rPr b="1" lang="uk-UA" sz="1800" spc="-1" strike="noStrike">
                <a:solidFill>
                  <a:srgbClr val="002060"/>
                </a:solidFill>
                <a:latin typeface="Times New Roman"/>
              </a:rPr>
              <a:t>25.02.2016 </a:t>
            </a:r>
            <a:r>
              <a:rPr b="0" lang="uk-UA" sz="1800" spc="-1" strike="noStrike">
                <a:solidFill>
                  <a:srgbClr val="002060"/>
                </a:solidFill>
                <a:latin typeface="Times New Roman"/>
              </a:rPr>
              <a:t>було проведено</a:t>
            </a:r>
            <a:r>
              <a:rPr b="1" lang="uk-UA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2060"/>
                </a:solidFill>
                <a:latin typeface="Times New Roman"/>
              </a:rPr>
              <a:t>постійно діючий семінар „Підготовка учнів до ДПА та ЗНО з математики  (розв’язування задач на побудову перерізів многогранників” (Поліщук С.В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642960" y="1143000"/>
            <a:ext cx="3143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Times New Roman"/>
              </a:rPr>
              <a:t>24.02.2016</a:t>
            </a:r>
            <a:r>
              <a:rPr b="0" lang="uk-UA" sz="1800" spc="-1" strike="noStrike">
                <a:solidFill>
                  <a:srgbClr val="002060"/>
                </a:solidFill>
                <a:latin typeface="Times New Roman"/>
              </a:rPr>
              <a:t> було проведено практичне заняття  „Відпрацювання навичок читання з англійської мови у після букварний період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Times New Roman"/>
              </a:rPr>
              <a:t>(Редькіна А.С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D:\настя\Папка педагога организатора\Фотоотчет\Портфолио 2015\2015-2016\SAM_1634.JPG"/>
          <p:cNvPicPr/>
          <p:nvPr/>
        </p:nvPicPr>
        <p:blipFill>
          <a:blip r:embed="rId4"/>
          <a:stretch/>
        </p:blipFill>
        <p:spPr>
          <a:xfrm>
            <a:off x="3286080" y="292896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математика - 0001"/>
          <p:cNvPicPr/>
          <p:nvPr/>
        </p:nvPicPr>
        <p:blipFill>
          <a:blip r:embed="rId5"/>
          <a:stretch/>
        </p:blipFill>
        <p:spPr>
          <a:xfrm>
            <a:off x="857160" y="6265800"/>
            <a:ext cx="2786040" cy="2370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математика - 0002"/>
          <p:cNvPicPr/>
          <p:nvPr/>
        </p:nvPicPr>
        <p:blipFill>
          <a:blip r:embed="rId6"/>
          <a:stretch/>
        </p:blipFill>
        <p:spPr>
          <a:xfrm>
            <a:off x="3429000" y="6072120"/>
            <a:ext cx="2900520" cy="19465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9" descr="D:\настя\Папка педагога организатора\Фотоотчет\Портфолио 2015\2015-2016\SAM_1632.JPG"/>
          <p:cNvPicPr/>
          <p:nvPr/>
        </p:nvPicPr>
        <p:blipFill>
          <a:blip r:embed="rId7"/>
          <a:stretch/>
        </p:blipFill>
        <p:spPr>
          <a:xfrm>
            <a:off x="1428840" y="3143160"/>
            <a:ext cx="2214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334800" y="933480"/>
            <a:ext cx="6274080" cy="931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42720" y="1285920"/>
            <a:ext cx="6229080" cy="71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omic Sans MS"/>
              </a:rPr>
              <a:t>                    </a:t>
            </a:r>
            <a:r>
              <a:rPr b="1" lang="uk-UA" sz="1800" spc="-1" strike="noStrike">
                <a:solidFill>
                  <a:srgbClr val="002060"/>
                </a:solidFill>
                <a:latin typeface="Comic Sans MS"/>
              </a:rPr>
              <a:t>09.02.201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                                   </a:t>
            </a: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було проведено</a:t>
            </a:r>
            <a:r>
              <a:rPr b="1" lang="uk-UA" sz="1800" spc="-1" strike="noStrike">
                <a:solidFill>
                  <a:srgbClr val="00206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                                </a:t>
            </a: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майстер-кла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                                         „</a:t>
            </a: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Військова тапографі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                           </a:t>
            </a: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Орієнтуванн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на місцевості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70c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Рисунок 5" descr="D:\настя\Папка педагога организатора\Фотоотчет\Портфолио 2015\2015-2016\SAM_1662.JPG"/>
          <p:cNvPicPr/>
          <p:nvPr/>
        </p:nvPicPr>
        <p:blipFill>
          <a:blip r:embed="rId3"/>
          <a:stretch/>
        </p:blipFill>
        <p:spPr>
          <a:xfrm>
            <a:off x="1071720" y="1857240"/>
            <a:ext cx="2428560" cy="1785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D:\настя\Папка педагога организатора\Фотоотчет\Портфолио 2015\2015-2016\vR_DYj9--PA.jpg"/>
          <p:cNvPicPr/>
          <p:nvPr/>
        </p:nvPicPr>
        <p:blipFill>
          <a:blip r:embed="rId4"/>
          <a:stretch/>
        </p:blipFill>
        <p:spPr>
          <a:xfrm>
            <a:off x="2928960" y="5929200"/>
            <a:ext cx="3543120" cy="26575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357120" y="5929200"/>
            <a:ext cx="2571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20.04.20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omic Sans MS"/>
              </a:rPr>
              <a:t>відбувся семінар –практикум з природознавства  «Формування розвивального середовища на уроках природознавств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Рисунок 8" descr="D:\настя\Папка педагога организатора\Фотоотчет\Портфолио 2015\2015-2016\ДПЮ\SAM_1670.JPG"/>
          <p:cNvPicPr/>
          <p:nvPr/>
        </p:nvPicPr>
        <p:blipFill>
          <a:blip r:embed="rId5"/>
          <a:stretch/>
        </p:blipFill>
        <p:spPr>
          <a:xfrm>
            <a:off x="357120" y="3571920"/>
            <a:ext cx="2519280" cy="18889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0" descr="D:\настя\Папка педагога организатора\Фотоотчет\Портфолио 2015\2015-2016\ДПЮ\SAM_1668.JPG"/>
          <p:cNvPicPr/>
          <p:nvPr/>
        </p:nvPicPr>
        <p:blipFill>
          <a:blip r:embed="rId6"/>
          <a:stretch/>
        </p:blipFill>
        <p:spPr>
          <a:xfrm>
            <a:off x="2500200" y="4000680"/>
            <a:ext cx="24591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139680" y="304920"/>
            <a:ext cx="6669000" cy="15904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D:\настя\Папка педагога организатора\Фотоотчет\Портфолио 2015\2015-2016\SAM_1851.JPG"/>
          <p:cNvPicPr/>
          <p:nvPr/>
        </p:nvPicPr>
        <p:blipFill>
          <a:blip r:embed="rId3"/>
          <a:stretch/>
        </p:blipFill>
        <p:spPr>
          <a:xfrm>
            <a:off x="928800" y="1785960"/>
            <a:ext cx="2795400" cy="2097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7" descr="D:\настя\Папка педагога организатора\Фотоотчет\Портфолио 2015\2015-2016\SAM_1517.JPG"/>
          <p:cNvPicPr/>
          <p:nvPr/>
        </p:nvPicPr>
        <p:blipFill>
          <a:blip r:embed="rId4"/>
          <a:stretch/>
        </p:blipFill>
        <p:spPr>
          <a:xfrm>
            <a:off x="3500280" y="2071800"/>
            <a:ext cx="2643480" cy="21430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D:\настя\Папка педагога организатора\Фотоотчет\Портфолио 2015\2015-2016\SAM_1657.JPG"/>
          <p:cNvPicPr/>
          <p:nvPr/>
        </p:nvPicPr>
        <p:blipFill>
          <a:blip r:embed="rId5"/>
          <a:stretch/>
        </p:blipFill>
        <p:spPr>
          <a:xfrm>
            <a:off x="3357720" y="6429240"/>
            <a:ext cx="2795400" cy="20973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9" descr="D:\настя\Папка педагога организатора\Фотоотчет\Портфолио 2015\2015-2016\зустріч з учасникомАТО\SAM_1155.JPG"/>
          <p:cNvPicPr/>
          <p:nvPr/>
        </p:nvPicPr>
        <p:blipFill>
          <a:blip r:embed="rId6"/>
          <a:stretch/>
        </p:blipFill>
        <p:spPr>
          <a:xfrm>
            <a:off x="857160" y="3786120"/>
            <a:ext cx="2648160" cy="19908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0" descr="D:\фото школьные\8 травня\SAM_0725.JPG"/>
          <p:cNvPicPr/>
          <p:nvPr/>
        </p:nvPicPr>
        <p:blipFill>
          <a:blip r:embed="rId7"/>
          <a:stretch/>
        </p:blipFill>
        <p:spPr>
          <a:xfrm>
            <a:off x="3286080" y="4286160"/>
            <a:ext cx="2724120" cy="2276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1"/>
          <p:cNvSpPr/>
          <p:nvPr/>
        </p:nvSpPr>
        <p:spPr>
          <a:xfrm>
            <a:off x="714240" y="578628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Протягом року неодноразово учні зустрічаються з ветеранами Другої Світової Війни та учасниками бойових дій в зоні АТО, які проводять з учнями школи круглі столи, уроки-диспути, лекції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139680" y="304920"/>
            <a:ext cx="6669000" cy="15904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3786120" y="1928880"/>
            <a:ext cx="228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До «Дня Козацтва – Дня Захисника Вітчизни»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учні школи розповідали вірші, співали пісні про нашу Неньку Україну, розповідали про національні символи Україн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Рисунок 4" descr="D:\настя\Папка педагога организатора\Фотоотчет\Портфолио 2015\2015-2016\1.jpg"/>
          <p:cNvPicPr/>
          <p:nvPr/>
        </p:nvPicPr>
        <p:blipFill>
          <a:blip r:embed="rId3"/>
          <a:stretch/>
        </p:blipFill>
        <p:spPr>
          <a:xfrm>
            <a:off x="642960" y="192888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D:\настя\Папка педагога организатора\Фотоотчет\Портфолио 2015\2015-2016\2.jpg"/>
          <p:cNvPicPr/>
          <p:nvPr/>
        </p:nvPicPr>
        <p:blipFill>
          <a:blip r:embed="rId4"/>
          <a:stretch/>
        </p:blipFill>
        <p:spPr>
          <a:xfrm>
            <a:off x="4714920" y="5143680"/>
            <a:ext cx="1762200" cy="2352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/Files/images/SAM_0123.JPG"/>
          <p:cNvPicPr/>
          <p:nvPr/>
        </p:nvPicPr>
        <p:blipFill>
          <a:blip r:embed="rId5"/>
          <a:stretch/>
        </p:blipFill>
        <p:spPr>
          <a:xfrm>
            <a:off x="857160" y="3786120"/>
            <a:ext cx="2333880" cy="18003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/Files/images/SAM_0124.JPG"/>
          <p:cNvPicPr/>
          <p:nvPr/>
        </p:nvPicPr>
        <p:blipFill>
          <a:blip r:embed="rId6"/>
          <a:stretch/>
        </p:blipFill>
        <p:spPr>
          <a:xfrm>
            <a:off x="1785960" y="5214960"/>
            <a:ext cx="2714760" cy="17524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1"/>
          <p:cNvSpPr/>
          <p:nvPr/>
        </p:nvSpPr>
        <p:spPr>
          <a:xfrm>
            <a:off x="857160" y="6786720"/>
            <a:ext cx="335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</a:rPr>
              <a:t>До Дня Соборності України систематично працюють виставки стіннівок та малюнкі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2"/>
          <a:stretch/>
        </p:blipFill>
        <p:spPr>
          <a:xfrm>
            <a:off x="139680" y="304920"/>
            <a:ext cx="6669000" cy="15904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428760" y="193500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Плідну роботу з національно-патріотичного виховання проводить Рада шкільного музею К.Ф.Ольшанськог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Рисунок 4" descr="D:\настя\Папка педагога организатора\Фотоотчет\Портфолио 2015\2015-2016\зустріч з учасникомАТО\SAM_1168.JPG"/>
          <p:cNvPicPr/>
          <p:nvPr/>
        </p:nvPicPr>
        <p:blipFill>
          <a:blip r:embed="rId3"/>
          <a:stretch/>
        </p:blipFill>
        <p:spPr>
          <a:xfrm>
            <a:off x="3786120" y="1785960"/>
            <a:ext cx="2638440" cy="1977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0"/>
          <p:cNvSpPr/>
          <p:nvPr/>
        </p:nvSpPr>
        <p:spPr>
          <a:xfrm>
            <a:off x="929520" y="621504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Рисунок 5" descr="-0O7aaxmpbs"/>
          <p:cNvPicPr/>
          <p:nvPr/>
        </p:nvPicPr>
        <p:blipFill>
          <a:blip r:embed="rId4"/>
          <a:stretch/>
        </p:blipFill>
        <p:spPr>
          <a:xfrm>
            <a:off x="357120" y="3357720"/>
            <a:ext cx="4000680" cy="4025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2786040" y="6296400"/>
            <a:ext cx="36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Учні проводять просвітницьку роботу щодо національно-патріотичного виховання  через виступи агітбригад  «Ми за Мир» та участі в всеукраїнських флешмобах «Ми= Україна», «Дівчата –краса Україн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Рисунок 5" descr="D:\настя\Папка педагога организатора\Фотоотчет\Портфолио 2015\2015-2016\зустріч з учасникомАТО\SAM_1167.JPG"/>
          <p:cNvPicPr/>
          <p:nvPr/>
        </p:nvPicPr>
        <p:blipFill>
          <a:blip r:embed="rId5"/>
          <a:stretch/>
        </p:blipFill>
        <p:spPr>
          <a:xfrm>
            <a:off x="285840" y="6715080"/>
            <a:ext cx="2638440" cy="19796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5" descr="C:\Documents and Settings\Владелец\Рабочий стол\фото школьные\SAM_0371.JPG"/>
          <p:cNvPicPr/>
          <p:nvPr/>
        </p:nvPicPr>
        <p:blipFill>
          <a:blip r:embed="rId6"/>
          <a:stretch/>
        </p:blipFill>
        <p:spPr>
          <a:xfrm>
            <a:off x="3500280" y="4071960"/>
            <a:ext cx="26434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6-04-22T08:21:07Z</dcterms:modified>
  <cp:revision>25</cp:revision>
  <dc:subject/>
  <dc:title>Слайд 1</dc:title>
</cp:coreProperties>
</file>