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5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28.jpeg" ContentType="image/jpeg"/>
  <Override PartName="/ppt/media/image51.jpeg" ContentType="image/jpeg"/>
  <Override PartName="/ppt/media/image18.png" ContentType="image/png"/>
  <Override PartName="/ppt/media/image6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5.jpeg" ContentType="image/jpeg"/>
  <Override PartName="/ppt/media/image2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4.png" ContentType="image/png"/>
  <Override PartName="/ppt/media/image12.jpeg" ContentType="image/jpeg"/>
  <Override PartName="/ppt/media/image26.jpeg" ContentType="image/jpeg"/>
  <Override PartName="/ppt/media/image5.jpeg" ContentType="image/jpeg"/>
  <Override PartName="/ppt/media/image29.jpeg" ContentType="image/jpeg"/>
  <Override PartName="/ppt/media/image52.jpeg" ContentType="image/jpeg"/>
  <Override PartName="/ppt/media/image33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0.jpeg" ContentType="image/jpeg"/>
  <Override PartName="/ppt/media/image44.jpeg" ContentType="image/jpeg"/>
  <Override PartName="/ppt/media/image38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32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0.jpeg" ContentType="image/jpeg"/>
  <Override PartName="/ppt/media/image54.jpeg" ContentType="image/jpeg"/>
  <Override PartName="/ppt/media/image13.png" ContentType="image/png"/>
  <Override PartName="/ppt/media/image27.jpeg" ContentType="image/jpeg"/>
  <Override PartName="/ppt/media/image50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47.png" ContentType="image/png"/>
  <Override PartName="/ppt/media/image1.jpeg" ContentType="image/jpeg"/>
  <Override PartName="/ppt/media/image35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6858000" cy="9144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026F-E1E3-4913-AB8A-4AF64F786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720"/>
            <a:ext cx="617220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412960"/>
            <a:ext cx="617220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6B4B-0C8D-4596-BE05-F6AC9066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720"/>
            <a:ext cx="301176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720"/>
            <a:ext cx="301176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412960"/>
            <a:ext cx="301176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412960"/>
            <a:ext cx="301176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7089-2F41-4CA5-9BB9-17DF34C56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720"/>
            <a:ext cx="198720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720"/>
            <a:ext cx="198720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720"/>
            <a:ext cx="198720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412960"/>
            <a:ext cx="198720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412960"/>
            <a:ext cx="198720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412960"/>
            <a:ext cx="198720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66A9-DEBF-4AD0-B942-8AA03B786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9EA4-7511-47F5-BA0D-D80496477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2720" y="2133720"/>
            <a:ext cx="6172200" cy="62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3873-3E8D-4C2E-8D13-61E3E977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2720" y="2133720"/>
            <a:ext cx="617220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30F2F-173D-47EE-A957-E15A7995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720"/>
            <a:ext cx="301176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5320" y="2133720"/>
            <a:ext cx="301176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1AD93-004A-48EF-BB95-28DCE5EE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4B390-6BAC-4762-8712-8E1F65C7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1762-DC53-4816-BE5A-9804B76E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2720" y="2133720"/>
            <a:ext cx="301176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05320" y="2133720"/>
            <a:ext cx="301176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2720" y="5412960"/>
            <a:ext cx="301176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FF9C7-0D9E-49EF-B249-60F2C89E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720"/>
            <a:ext cx="6172200" cy="62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271E-42D0-44E9-931D-9B78A231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133720"/>
            <a:ext cx="301176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05320" y="2133720"/>
            <a:ext cx="301176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05320" y="5412960"/>
            <a:ext cx="301176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4B5EA-98ED-4FE4-A033-DC28E5E9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2133720"/>
            <a:ext cx="301176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05320" y="2133720"/>
            <a:ext cx="301176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2720" y="5412960"/>
            <a:ext cx="617220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6E97-97A4-436E-9F8F-B4CCA1F2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133720"/>
            <a:ext cx="617220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2720" y="5412960"/>
            <a:ext cx="617220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EBE0-4452-4146-B6B8-DA118DEF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2133720"/>
            <a:ext cx="301176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05320" y="2133720"/>
            <a:ext cx="301176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2720" y="5412960"/>
            <a:ext cx="301176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505320" y="5412960"/>
            <a:ext cx="301176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61FF-C1B1-47E5-BCC8-10CFC19B1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133720"/>
            <a:ext cx="198720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29640" y="2133720"/>
            <a:ext cx="198720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16560" y="2133720"/>
            <a:ext cx="198720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2720" y="5412960"/>
            <a:ext cx="198720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29640" y="5412960"/>
            <a:ext cx="198720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516560" y="5412960"/>
            <a:ext cx="198720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E829-FE37-4C59-A169-8CFB9E7C3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720"/>
            <a:ext cx="617220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83F2-99E2-4377-A375-75F1C46D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720"/>
            <a:ext cx="301176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720"/>
            <a:ext cx="301176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4028-571C-469F-811B-885A60B9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BD0E-23D8-445E-B360-D5EF4912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F6C8-D459-4428-B5A1-90261FE6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720"/>
            <a:ext cx="301176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720"/>
            <a:ext cx="301176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412960"/>
            <a:ext cx="301176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AD3D-E733-41B2-827F-37462120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720"/>
            <a:ext cx="301176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720"/>
            <a:ext cx="301176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412960"/>
            <a:ext cx="301176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4777-2EC3-4428-AC6F-13A57A68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720"/>
            <a:ext cx="301176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720"/>
            <a:ext cx="301176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412960"/>
            <a:ext cx="617220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17FA-38AB-415D-964C-6A1936FD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720"/>
            <a:ext cx="617220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555040"/>
            <a:ext cx="1600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555040"/>
            <a:ext cx="2171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943600" y="8555040"/>
            <a:ext cx="57168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A24A-7C50-4D33-BCFB-C46D2CC084C2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2720" y="2133720"/>
            <a:ext cx="617220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42720" y="8555040"/>
            <a:ext cx="1600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43240" y="8555040"/>
            <a:ext cx="2171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5943600" y="8555040"/>
            <a:ext cx="57168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3768-BA02-4679-9671-88338CB639F5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23.pn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2"/>
          <a:stretch/>
        </p:blipFill>
        <p:spPr>
          <a:xfrm>
            <a:off x="96840" y="1639800"/>
            <a:ext cx="695628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4" descr="C:\Documents and Settings\Владелец\Local Settings\Temporary Internet Files\Content.Word\SAM_0321.jpg"/>
          <p:cNvPicPr/>
          <p:nvPr/>
        </p:nvPicPr>
        <p:blipFill>
          <a:blip r:embed="rId2"/>
          <a:stretch/>
        </p:blipFill>
        <p:spPr>
          <a:xfrm>
            <a:off x="428760" y="6072120"/>
            <a:ext cx="6143400" cy="2643120"/>
          </a:xfrm>
          <a:prstGeom prst="rect">
            <a:avLst/>
          </a:prstGeom>
          <a:ln w="0">
            <a:noFill/>
          </a:ln>
        </p:spPr>
      </p:pic>
      <p:pic>
        <p:nvPicPr>
          <p:cNvPr id="135" name="Заголовок 1" descr=""/>
          <p:cNvPicPr/>
          <p:nvPr/>
        </p:nvPicPr>
        <p:blipFill>
          <a:blip r:embed="rId3"/>
          <a:stretch/>
        </p:blipFill>
        <p:spPr>
          <a:xfrm>
            <a:off x="139680" y="304920"/>
            <a:ext cx="6669000" cy="15904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343080" y="1857240"/>
            <a:ext cx="6086160" cy="65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44061"/>
                </a:solidFill>
                <a:latin typeface="Comic Sans MS"/>
                <a:ea typeface="Times New Roman"/>
              </a:rPr>
              <a:t>Лист МИР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82971"/>
                </a:solidFill>
                <a:latin typeface="Comic Sans MS"/>
                <a:ea typeface="Times New Roman"/>
              </a:rPr>
              <a:t>Що для мене мир</a:t>
            </a:r>
            <a:r>
              <a:rPr b="1" lang="ru-RU" sz="1800" spc="-1" strike="noStrike">
                <a:solidFill>
                  <a:srgbClr val="382971"/>
                </a:solidFill>
                <a:latin typeface="Comic Sans MS"/>
                <a:ea typeface="Times New Roman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244061"/>
                </a:solidFill>
                <a:latin typeface="Comic Sans MS"/>
                <a:ea typeface="Times New Roman"/>
              </a:rPr>
              <a:t>Мир дуже важлива річ. Мир-ц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244061"/>
                </a:solidFill>
                <a:latin typeface="Comic Sans MS"/>
                <a:ea typeface="Times New Roman"/>
              </a:rPr>
              <a:t>не просто відсутність війни,це взаєморозуміння,повага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244061"/>
                </a:solidFill>
                <a:latin typeface="Comic Sans MS"/>
                <a:ea typeface="Times New Roman"/>
              </a:rPr>
              <a:t>відсутність конфліктів,сварок. Мир повинен бути всюди</a:t>
            </a:r>
            <a:r>
              <a:rPr b="0" lang="ru-RU" sz="1800" spc="-1" strike="noStrike">
                <a:solidFill>
                  <a:srgbClr val="244061"/>
                </a:solidFill>
                <a:latin typeface="Comic Sans MS"/>
                <a:ea typeface="Times New Roman"/>
              </a:rPr>
              <a:t>:</a:t>
            </a:r>
            <a:r>
              <a:rPr b="0" lang="uk-UA" sz="1800" spc="-1" strike="noStrike">
                <a:solidFill>
                  <a:srgbClr val="244061"/>
                </a:solidFill>
                <a:latin typeface="Comic Sans MS"/>
                <a:ea typeface="Times New Roman"/>
              </a:rPr>
              <a:t>у країні,у колективі,у родині,на роботі. Коли мир є,то немає причин для брехні,зневаги,образи. У мирний час люди живуть своїм життям,почуваються вільними,потрібними,спокійними. Та не можна зрозуміти цінність миру,доки людину не застане така жахлива річ,як війна. Вона нищить все,приносить великі втрати,спричинює страждання для всіх. І йдеться навіть не про матеріальну шкоду,а про людські життя. Численні людські життя,що війна забирає кожної години,кожної хвилини,кожної секунди. Наскільки жорстокою є людина,що може безжально і безсоромно губити сотні людей. Навіщо нищити те,що колись самі будували</a:t>
            </a:r>
            <a:r>
              <a:rPr b="0" lang="ru-RU" sz="1800" spc="-1" strike="noStrike">
                <a:solidFill>
                  <a:srgbClr val="244061"/>
                </a:solidFill>
                <a:latin typeface="Comic Sans MS"/>
                <a:ea typeface="Times New Roman"/>
              </a:rPr>
              <a:t>?</a:t>
            </a:r>
            <a:br>
              <a:rPr sz="1800"/>
            </a:br>
            <a:r>
              <a:rPr b="0" lang="uk-UA" sz="1800" spc="-1" strike="noStrike">
                <a:solidFill>
                  <a:srgbClr val="244061"/>
                </a:solidFill>
                <a:latin typeface="Comic Sans MS"/>
                <a:ea typeface="Times New Roman"/>
              </a:rPr>
              <a:t>Якщо люди будуть розуміти,що таке мир,то створять його,бо усвідомлять його справжню цінність</a:t>
            </a:r>
            <a:r>
              <a:rPr b="0" lang="uk-UA" sz="1800" spc="-1" strike="noStrike">
                <a:solidFill>
                  <a:srgbClr val="244061"/>
                </a:solidFill>
                <a:latin typeface="Calibri"/>
                <a:ea typeface="Times New Roman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82971"/>
                </a:solidFill>
                <a:latin typeface="Comic Sans MS"/>
                <a:ea typeface="Times New Roman"/>
              </a:rPr>
              <a:t>Мир не кров</a:t>
            </a:r>
            <a:r>
              <a:rPr b="1" lang="uk-UA" sz="1800" spc="-1" strike="noStrike">
                <a:solidFill>
                  <a:srgbClr val="382971"/>
                </a:solidFill>
                <a:latin typeface="Calibri"/>
                <a:ea typeface="Times New Roman"/>
              </a:rPr>
              <a:t>’</a:t>
            </a:r>
            <a:r>
              <a:rPr b="1" lang="uk-UA" sz="1800" spc="-1" strike="noStrike">
                <a:solidFill>
                  <a:srgbClr val="382971"/>
                </a:solidFill>
                <a:latin typeface="Comic Sans MS"/>
                <a:ea typeface="Times New Roman"/>
              </a:rPr>
              <a:t>ю, а дружбою та любов</a:t>
            </a:r>
            <a:r>
              <a:rPr b="1" lang="ru-RU" sz="1800" spc="-1" strike="noStrike">
                <a:solidFill>
                  <a:srgbClr val="382971"/>
                </a:solidFill>
                <a:latin typeface="Comic Sans MS"/>
                <a:ea typeface="Times New Roman"/>
              </a:rPr>
              <a:t>`</a:t>
            </a:r>
            <a:r>
              <a:rPr b="1" lang="uk-UA" sz="1800" spc="-1" strike="noStrike">
                <a:solidFill>
                  <a:srgbClr val="382971"/>
                </a:solidFill>
                <a:latin typeface="Comic Sans MS"/>
                <a:ea typeface="Times New Roman"/>
              </a:rPr>
              <a:t>ю</a:t>
            </a:r>
            <a:r>
              <a:rPr b="1" lang="uk-UA" sz="1800" spc="-1" strike="noStrike">
                <a:solidFill>
                  <a:srgbClr val="382971"/>
                </a:solidFill>
                <a:latin typeface="Calibri"/>
                <a:ea typeface="Times New Roman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Рисунок 3" descr="/Files/images/герб.JPG"/>
          <p:cNvPicPr/>
          <p:nvPr/>
        </p:nvPicPr>
        <p:blipFill>
          <a:blip r:embed="rId4"/>
          <a:stretch/>
        </p:blipFill>
        <p:spPr>
          <a:xfrm>
            <a:off x="5357880" y="1785960"/>
            <a:ext cx="117144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Заголовок 1" descr=""/>
          <p:cNvPicPr/>
          <p:nvPr/>
        </p:nvPicPr>
        <p:blipFill>
          <a:blip r:embed="rId2"/>
          <a:stretch/>
        </p:blipFill>
        <p:spPr>
          <a:xfrm>
            <a:off x="139680" y="304920"/>
            <a:ext cx="6669000" cy="159048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5" descr="SAM_1040"/>
          <p:cNvPicPr/>
          <p:nvPr/>
        </p:nvPicPr>
        <p:blipFill>
          <a:blip r:embed="rId3"/>
          <a:stretch/>
        </p:blipFill>
        <p:spPr>
          <a:xfrm>
            <a:off x="3714840" y="1857240"/>
            <a:ext cx="2000160" cy="266544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8" descr="SAM_1037"/>
          <p:cNvPicPr/>
          <p:nvPr/>
        </p:nvPicPr>
        <p:blipFill>
          <a:blip r:embed="rId4"/>
          <a:stretch/>
        </p:blipFill>
        <p:spPr>
          <a:xfrm>
            <a:off x="714240" y="2214720"/>
            <a:ext cx="2857680" cy="21430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357120" y="4451400"/>
            <a:ext cx="285768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Вже традиційними стали в нашій школі акції «Голуб миру» та «Лист солдату», на початку навчального року вже не вперше  учні виготовляють своїми руками голубів, малюють малюнки, пишуть листи, які надсилаються воїнам АТО.</a:t>
            </a:r>
            <a:r>
              <a:rPr b="0" lang="ru-RU" sz="1600" spc="-1" strike="noStrike">
                <a:solidFill>
                  <a:srgbClr val="002060"/>
                </a:solidFill>
                <a:latin typeface="Comic Sans MS"/>
              </a:rPr>
              <a:t> Учні школи взяли участь у Міжнародному проекті "Діти за мир у всьому світі", ініційованому посольствомУгорщини в Україні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Рисунок 8" descr="D:\настя\Папка педагога организатора\Фотоотчет\Портфолио 2015\2015-2016\SAM_1035.JPG"/>
          <p:cNvPicPr/>
          <p:nvPr/>
        </p:nvPicPr>
        <p:blipFill>
          <a:blip r:embed="rId5"/>
          <a:stretch/>
        </p:blipFill>
        <p:spPr>
          <a:xfrm>
            <a:off x="3286080" y="4071960"/>
            <a:ext cx="2857680" cy="217008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8" descr="D:\настя\Папка педагога организатора\Фотоотчет\Портфолио 2015\2015-2016\5YE4jGjL990.jpg"/>
          <p:cNvPicPr/>
          <p:nvPr/>
        </p:nvPicPr>
        <p:blipFill>
          <a:blip r:embed="rId6"/>
          <a:stretch/>
        </p:blipFill>
        <p:spPr>
          <a:xfrm>
            <a:off x="3143160" y="6072120"/>
            <a:ext cx="32464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Заголовок 1" descr=""/>
          <p:cNvPicPr/>
          <p:nvPr/>
        </p:nvPicPr>
        <p:blipFill>
          <a:blip r:embed="rId2"/>
          <a:stretch/>
        </p:blipFill>
        <p:spPr>
          <a:xfrm>
            <a:off x="139680" y="304920"/>
            <a:ext cx="6669000" cy="15904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3500280" y="1725120"/>
            <a:ext cx="25718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В школі стало традицією проведення  «Свята вишиванки». В цьому  році свято провели спільно з вихованцями дошкільного закладу №279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Рисунок 4" descr="D:\фото школьные\свято вишиванки\SAM_0742.JPG"/>
          <p:cNvPicPr/>
          <p:nvPr/>
        </p:nvPicPr>
        <p:blipFill>
          <a:blip r:embed="rId3"/>
          <a:stretch/>
        </p:blipFill>
        <p:spPr>
          <a:xfrm>
            <a:off x="642960" y="1714680"/>
            <a:ext cx="2857320" cy="228600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5" descr="D:\фото школьные\свято вишиванки\SAM_0749.JPG"/>
          <p:cNvPicPr/>
          <p:nvPr/>
        </p:nvPicPr>
        <p:blipFill>
          <a:blip r:embed="rId4"/>
          <a:stretch/>
        </p:blipFill>
        <p:spPr>
          <a:xfrm>
            <a:off x="1000080" y="3786120"/>
            <a:ext cx="2781360" cy="2295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D:\настя\Папка педагога организатора\Фотоотчет\Портфолио 2015\2015-2016\20151016_144958.jpg"/>
          <p:cNvPicPr/>
          <p:nvPr/>
        </p:nvPicPr>
        <p:blipFill>
          <a:blip r:embed="rId5"/>
          <a:stretch/>
        </p:blipFill>
        <p:spPr>
          <a:xfrm>
            <a:off x="4286160" y="6000840"/>
            <a:ext cx="1928880" cy="257184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кутник 7"/>
          <p:cNvSpPr/>
          <p:nvPr/>
        </p:nvSpPr>
        <p:spPr>
          <a:xfrm>
            <a:off x="500040" y="6143760"/>
            <a:ext cx="40006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omic Sans MS"/>
              </a:rPr>
              <a:t>Учні школи взяли участь в фотоконкурсі "Улюблений Харків", де представили свої роботи в двох номінаціях "Сімейний альбом Харкова" та "Мій Харків". Роботи Забахідзе Катерини посіли 2 місце в номінайії "Сімейний альбом Харкова", а Михайло Жарко отримав приз, як наймолодший учасник конкурсу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3" descr="D:\настя\Папка педагога организатора\Фотоотчет\Портфолио 2015\2015-2016\20151016_144733.jpg"/>
          <p:cNvPicPr/>
          <p:nvPr/>
        </p:nvPicPr>
        <p:blipFill>
          <a:blip r:embed="rId6"/>
          <a:stretch/>
        </p:blipFill>
        <p:spPr>
          <a:xfrm>
            <a:off x="3786120" y="4000680"/>
            <a:ext cx="26211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Заголовок 1" descr=""/>
          <p:cNvPicPr/>
          <p:nvPr/>
        </p:nvPicPr>
        <p:blipFill>
          <a:blip r:embed="rId2"/>
          <a:stretch/>
        </p:blipFill>
        <p:spPr>
          <a:xfrm>
            <a:off x="334800" y="360360"/>
            <a:ext cx="6231240" cy="153504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Прямокутник 5"/>
          <p:cNvSpPr/>
          <p:nvPr/>
        </p:nvSpPr>
        <p:spPr>
          <a:xfrm>
            <a:off x="500040" y="1643040"/>
            <a:ext cx="307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mic Sans MS"/>
              </a:rPr>
              <a:t>У лютому 2016р. в школі була проведена акція "Кришечка - допоможе солдату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5" descr="D:\настя\Папка педагога организатора\Фотоотчет\Портфолио 2015\2015-2016\fil_katalog2.JPG"/>
          <p:cNvPicPr/>
          <p:nvPr/>
        </p:nvPicPr>
        <p:blipFill>
          <a:blip r:embed="rId3"/>
          <a:stretch/>
        </p:blipFill>
        <p:spPr>
          <a:xfrm>
            <a:off x="3357720" y="2071800"/>
            <a:ext cx="3058920" cy="2038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D:\настя\Папка педагога организатора\Фотоотчет\Портфолио 2015\2015-2016\20150921_105547.jpg"/>
          <p:cNvPicPr/>
          <p:nvPr/>
        </p:nvPicPr>
        <p:blipFill>
          <a:blip r:embed="rId4"/>
          <a:stretch/>
        </p:blipFill>
        <p:spPr>
          <a:xfrm>
            <a:off x="785880" y="3357720"/>
            <a:ext cx="2357280" cy="1765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D:\настя\Папка педагога организатора\Фотоотчет\Портфолио 2015\2015-2016\IMG_6726.JPG"/>
          <p:cNvPicPr/>
          <p:nvPr/>
        </p:nvPicPr>
        <p:blipFill>
          <a:blip r:embed="rId5"/>
          <a:stretch/>
        </p:blipFill>
        <p:spPr>
          <a:xfrm>
            <a:off x="3500280" y="4357800"/>
            <a:ext cx="2570400" cy="19238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D:\настя\Папка педагога организатора\Фотоотчет\Портфолио 2015\2015-2016\IMG_6723.JPG"/>
          <p:cNvPicPr/>
          <p:nvPr/>
        </p:nvPicPr>
        <p:blipFill>
          <a:blip r:embed="rId6"/>
          <a:stretch/>
        </p:blipFill>
        <p:spPr>
          <a:xfrm>
            <a:off x="3357720" y="6286680"/>
            <a:ext cx="3047760" cy="228096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кутник 10"/>
          <p:cNvSpPr/>
          <p:nvPr/>
        </p:nvSpPr>
        <p:spPr>
          <a:xfrm>
            <a:off x="357120" y="5000760"/>
            <a:ext cx="300060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mic Sans MS"/>
              </a:rPr>
              <a:t>Представники шкільної організації ШІМ подарували дитячому будинку змішаного типу обласного підпорядкування, зібрані учнями школи канцтовари та розвиваючі ігр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Заголовок 1" descr=""/>
          <p:cNvPicPr/>
          <p:nvPr/>
        </p:nvPicPr>
        <p:blipFill>
          <a:blip r:embed="rId2"/>
          <a:stretch/>
        </p:blipFill>
        <p:spPr>
          <a:xfrm>
            <a:off x="334800" y="360360"/>
            <a:ext cx="6231240" cy="1535040"/>
          </a:xfrm>
          <a:prstGeom prst="rect">
            <a:avLst/>
          </a:prstGeom>
          <a:ln w="0">
            <a:noFill/>
          </a:ln>
        </p:spPr>
      </p:pic>
      <p:sp>
        <p:nvSpPr>
          <p:cNvPr id="163" name="TextBox 3"/>
          <p:cNvSpPr/>
          <p:nvPr/>
        </p:nvSpPr>
        <p:spPr>
          <a:xfrm>
            <a:off x="1000080" y="1643040"/>
            <a:ext cx="228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mic Sans MS"/>
              </a:rPr>
              <a:t>Учні школи зібрали новорічні подарунки  для  дітей пільгового контингенту школи на честь свята Святого Микол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Picture 2" descr="D:\настя\Папка педагога организатора\Фотоотчет\Портфолио 2015\2015-2016\1305331_20100904195926.gif"/>
          <p:cNvPicPr/>
          <p:nvPr/>
        </p:nvPicPr>
        <p:blipFill>
          <a:blip r:embed="rId3"/>
          <a:stretch/>
        </p:blipFill>
        <p:spPr>
          <a:xfrm>
            <a:off x="3143160" y="17146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65" name="TextBox 5"/>
          <p:cNvSpPr/>
          <p:nvPr/>
        </p:nvSpPr>
        <p:spPr>
          <a:xfrm>
            <a:off x="3429000" y="4429080"/>
            <a:ext cx="2643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2060"/>
                </a:solidFill>
                <a:latin typeface="Comic Sans MS"/>
              </a:rPr>
              <a:t>Учні школи провели благодійну лотерею та солодкий ярмарок, на отримані кошти було придбано подарунок для бійців з зони АТ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3" descr="D:\настя\Папка педагога организатора\Фотоотчет\Портфолио 2015\2015-2016\SAM_1742 (2).JPG"/>
          <p:cNvPicPr/>
          <p:nvPr/>
        </p:nvPicPr>
        <p:blipFill>
          <a:blip r:embed="rId4"/>
          <a:stretch/>
        </p:blipFill>
        <p:spPr>
          <a:xfrm>
            <a:off x="857160" y="4071960"/>
            <a:ext cx="2671920" cy="2000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D:\настя\Папка педагога организатора\Фотоотчет\Портфолио 2015\2015-2016\SAM_1731 (1).JPG"/>
          <p:cNvPicPr/>
          <p:nvPr/>
        </p:nvPicPr>
        <p:blipFill>
          <a:blip r:embed="rId5"/>
          <a:stretch/>
        </p:blipFill>
        <p:spPr>
          <a:xfrm>
            <a:off x="714240" y="6143760"/>
            <a:ext cx="3143520" cy="2352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D:\настя\Папка педагога организатора\Фотоотчет\Портфолио 2015\2015-2016\12_b.jpg"/>
          <p:cNvPicPr/>
          <p:nvPr/>
        </p:nvPicPr>
        <p:blipFill>
          <a:blip r:embed="rId6"/>
          <a:stretch/>
        </p:blipFill>
        <p:spPr>
          <a:xfrm>
            <a:off x="3786120" y="6429240"/>
            <a:ext cx="255924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3"/>
          <p:cNvSpPr/>
          <p:nvPr/>
        </p:nvSpPr>
        <p:spPr>
          <a:xfrm>
            <a:off x="571680" y="714240"/>
            <a:ext cx="55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9689a6"/>
                </a:solidFill>
                <a:latin typeface="Comic Sans MS"/>
              </a:rPr>
              <a:t>Навчальні досягнення учні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500040" y="1253880"/>
            <a:ext cx="6000840" cy="73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af9738"/>
                </a:solidFill>
                <a:latin typeface="Comic Sans MS"/>
                <a:ea typeface="Times New Roman"/>
              </a:rPr>
              <a:t>        </a:t>
            </a:r>
            <a:r>
              <a:rPr b="1" lang="uk-UA" sz="1200" spc="-1" strike="noStrike">
                <a:solidFill>
                  <a:srgbClr val="af9738"/>
                </a:solidFill>
                <a:latin typeface="Comic Sans MS"/>
                <a:ea typeface="Times New Roman"/>
              </a:rPr>
              <a:t>Учні школи, переможці І етапу олімпіад чи конкурсів, брали участь у ІІ етапах змагань та посіли призові місц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ceb966"/>
                </a:solidFill>
                <a:latin typeface="Comic Sans MS"/>
                <a:ea typeface="Times New Roman"/>
              </a:rPr>
              <a:t>Валуйська Г. (5-А клас) посіла ІІІ  місце в районному  етапі  Міжнародного мовно-літературного конкурсу учнівської та студентської молоді імені Тараса Шевченка (вчитель Леонідова Л.Б.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ceb966"/>
                </a:solidFill>
                <a:latin typeface="Comic Sans MS"/>
                <a:ea typeface="Times New Roman"/>
              </a:rPr>
              <a:t>Слатін М. (9-А клас) посів ІІІ місце в районному етапі олімпіади з інформаційних технологій (вчитель Поляк М.О.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ceb966"/>
                </a:solidFill>
                <a:latin typeface="Comic Sans MS"/>
                <a:ea typeface="Times New Roman"/>
              </a:rPr>
              <a:t>Плотнікова А. ( 9-А клас), Коломійцева М.(9-А клас) посіли ІІ місце в районному етапі олімпіади з трудового навчання (вчитель Рябокінь А.О.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ceb966"/>
                </a:solidFill>
                <a:latin typeface="Comic Sans MS"/>
                <a:ea typeface="Times New Roman"/>
              </a:rPr>
              <a:t>Надьожкіна Д. (11-А клас), Пахомова А.(11-А клас) посіли ІІІ  місце в районному етапі олімпіади з технологій (трудове навчання) (вчитель Рябокінь А.О.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ceb966"/>
                </a:solidFill>
                <a:latin typeface="Comic Sans MS"/>
                <a:ea typeface="Times New Roman"/>
              </a:rPr>
              <a:t>Стрельцов О.(7-А клас) посів І місце, Максименко А. (7-А клас) посіла ІІІ місце  в районному етапі олімпіади з хімії (вчитель Нездийминога Т.І.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ceb966"/>
                </a:solidFill>
                <a:latin typeface="Comic Sans MS"/>
                <a:ea typeface="Times New Roman"/>
              </a:rPr>
              <a:t>Стрельцов О.(7-А клас) посів ІІІ місце в районному етапі олімпіади з фізики ( вчитель Несен Л.В.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ceb966"/>
                </a:solidFill>
                <a:latin typeface="Comic Sans MS"/>
                <a:ea typeface="Times New Roman"/>
              </a:rPr>
              <a:t>Плотнікова А.(9-А клас) посіла ІІІ місце в районному етапі олімпіади з біології (вчитель Лебедєва С.В.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ceb966"/>
                </a:solidFill>
                <a:latin typeface="Comic Sans MS"/>
                <a:ea typeface="Times New Roman"/>
              </a:rPr>
              <a:t>Козакевич Є. (6-А клас) посів ІІІ місце у конкурсі творчих робіт „Мій родовід” (вчитель   Редькіна А.С.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2"/>
          <a:stretch/>
        </p:blipFill>
        <p:spPr>
          <a:xfrm>
            <a:off x="333360" y="395280"/>
            <a:ext cx="6188040" cy="153504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3"/>
          <p:cNvSpPr/>
          <p:nvPr/>
        </p:nvSpPr>
        <p:spPr>
          <a:xfrm>
            <a:off x="857160" y="1143000"/>
            <a:ext cx="5500800" cy="93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eb966"/>
                </a:solidFill>
                <a:latin typeface="Comic Sans MS"/>
              </a:rPr>
              <a:t>Стипендією</a:t>
            </a:r>
            <a:r>
              <a:rPr b="1" lang="uk-UA" sz="1800" spc="-1" strike="noStrike">
                <a:solidFill>
                  <a:srgbClr val="ceb966"/>
                </a:solidFill>
                <a:latin typeface="Comic Sans MS"/>
              </a:rPr>
              <a:t> </a:t>
            </a:r>
            <a:r>
              <a:rPr b="0" lang="uk-UA" sz="1800" spc="-1" strike="noStrike">
                <a:solidFill>
                  <a:srgbClr val="ceb966"/>
                </a:solidFill>
                <a:latin typeface="Comic Sans MS"/>
              </a:rPr>
              <a:t>Харківської міської ради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eb966"/>
                </a:solidFill>
                <a:latin typeface="Comic Sans MS"/>
              </a:rPr>
              <a:t>«Кращий учень навчального закладу нагороджено ученицю 11-А класу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eb966"/>
                </a:solidFill>
                <a:latin typeface="Comic Sans MS"/>
              </a:rPr>
              <a:t>Сотнікову Анастасі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0" lang="uk-UA" sz="1800" spc="-1" strike="noStrike">
                <a:solidFill>
                  <a:srgbClr val="ceb966"/>
                </a:solidFill>
                <a:latin typeface="Comic Sans MS"/>
              </a:rPr>
              <a:t>Стипендією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eb966"/>
                </a:solidFill>
                <a:latin typeface="Comic Sans MS"/>
              </a:rPr>
              <a:t>Народного депутата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eb966"/>
                </a:solidFill>
                <a:latin typeface="Comic Sans MS"/>
              </a:rPr>
              <a:t>України В.В. Писарен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eb966"/>
                </a:solidFill>
                <a:latin typeface="Comic Sans MS"/>
              </a:rPr>
              <a:t>«Гордість Дзержинськог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eb966"/>
                </a:solidFill>
                <a:latin typeface="Comic Sans MS"/>
              </a:rPr>
              <a:t> </a:t>
            </a:r>
            <a:r>
              <a:rPr b="0" lang="uk-UA" sz="1800" spc="-1" strike="noStrike">
                <a:solidFill>
                  <a:srgbClr val="ceb966"/>
                </a:solidFill>
                <a:latin typeface="Comic Sans MS"/>
              </a:rPr>
              <a:t>району»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eb966"/>
                </a:solidFill>
                <a:latin typeface="Comic Sans MS"/>
              </a:rPr>
              <a:t> </a:t>
            </a:r>
            <a:r>
              <a:rPr b="0" lang="uk-UA" sz="1800" spc="-1" strike="noStrike">
                <a:solidFill>
                  <a:srgbClr val="ceb966"/>
                </a:solidFill>
                <a:latin typeface="Comic Sans MS"/>
              </a:rPr>
              <a:t>нагороджено учн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eb966"/>
                </a:solidFill>
                <a:latin typeface="Comic Sans MS"/>
              </a:rPr>
              <a:t>7 –А клас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eb966"/>
                </a:solidFill>
                <a:latin typeface="Comic Sans MS"/>
              </a:rPr>
              <a:t> </a:t>
            </a:r>
            <a:r>
              <a:rPr b="0" lang="uk-UA" sz="1800" spc="-1" strike="noStrike">
                <a:solidFill>
                  <a:srgbClr val="ceb966"/>
                </a:solidFill>
                <a:latin typeface="Comic Sans MS"/>
              </a:rPr>
              <a:t>Просянника Микиту</a:t>
            </a:r>
            <a:r>
              <a:rPr b="0" lang="uk-UA" sz="1800" spc="-1" strike="noStrike">
                <a:solidFill>
                  <a:srgbClr val="00206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2" descr="C:\Documents and Settings\user\Рабочий стол\n_Uzj8qTo7k.jpg"/>
          <p:cNvPicPr/>
          <p:nvPr/>
        </p:nvPicPr>
        <p:blipFill>
          <a:blip r:embed="rId3"/>
          <a:stretch/>
        </p:blipFill>
        <p:spPr>
          <a:xfrm>
            <a:off x="1928880" y="2357280"/>
            <a:ext cx="3786120" cy="2840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C:\Documents and Settings\user\Рабочий стол\yF1yhMJwj3s.jpg"/>
          <p:cNvPicPr/>
          <p:nvPr/>
        </p:nvPicPr>
        <p:blipFill>
          <a:blip r:embed="rId4"/>
          <a:stretch/>
        </p:blipFill>
        <p:spPr>
          <a:xfrm>
            <a:off x="857160" y="5214960"/>
            <a:ext cx="235764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2"/>
          <a:stretch/>
        </p:blipFill>
        <p:spPr>
          <a:xfrm>
            <a:off x="334800" y="847800"/>
            <a:ext cx="6315120" cy="706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0" y="2714400"/>
            <a:ext cx="550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Times New Roman"/>
              </a:rPr>
              <a:t>24.12.2015</a:t>
            </a:r>
            <a:r>
              <a:rPr b="0" lang="uk-UA" sz="1800" spc="-1" strike="noStrike">
                <a:solidFill>
                  <a:srgbClr val="002060"/>
                </a:solidFill>
                <a:latin typeface="Times New Roman"/>
              </a:rPr>
              <a:t> було проведено теоретично- практичне заняття „Використання інформаційних технологій у роботі вчителя фізичної культури” для вчителів фізичної культур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2060"/>
                </a:solidFill>
                <a:latin typeface="Times New Roman"/>
              </a:rPr>
              <a:t>(Ігнатьєв С.Б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571680" y="1500120"/>
            <a:ext cx="550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Times New Roman"/>
              </a:rPr>
              <a:t>16.10.2015</a:t>
            </a:r>
            <a:r>
              <a:rPr b="0" lang="uk-UA" sz="1800" spc="-1" strike="noStrike">
                <a:solidFill>
                  <a:srgbClr val="002060"/>
                </a:solidFill>
                <a:latin typeface="Times New Roman"/>
              </a:rPr>
              <a:t> було проведено семінар-практикум з патріотичного виховання «З Україною в серці» для вчителів початкових класі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4" descr="D:\настя\Папка педагога организатора\Фотоотчет\Портфолио 2015\2015-2016\1.jpg"/>
          <p:cNvPicPr/>
          <p:nvPr/>
        </p:nvPicPr>
        <p:blipFill>
          <a:blip r:embed="rId3"/>
          <a:stretch/>
        </p:blipFill>
        <p:spPr>
          <a:xfrm>
            <a:off x="571680" y="2714760"/>
            <a:ext cx="3057480" cy="2103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D:\настя\Папка педагога организатора\Фотоотчет\Портфолио 2015\2015-2016\5.jpg"/>
          <p:cNvPicPr/>
          <p:nvPr/>
        </p:nvPicPr>
        <p:blipFill>
          <a:blip r:embed="rId4"/>
          <a:stretch/>
        </p:blipFill>
        <p:spPr>
          <a:xfrm>
            <a:off x="3714840" y="2428920"/>
            <a:ext cx="2571840" cy="26575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9" descr="D:\настя\Папка педагога организатора\Фотоотчет\Портфолио 2015\2015-2016\IMG_20151224_160537.jpg"/>
          <p:cNvPicPr/>
          <p:nvPr/>
        </p:nvPicPr>
        <p:blipFill>
          <a:blip r:embed="rId5"/>
          <a:stretch/>
        </p:blipFill>
        <p:spPr>
          <a:xfrm>
            <a:off x="857160" y="6643800"/>
            <a:ext cx="2643120" cy="185724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0" descr="D:\настя\Папка педагога организатора\Фотоотчет\Портфолио 2015\2015-2016\IMG_20151224_160414.jpg"/>
          <p:cNvPicPr/>
          <p:nvPr/>
        </p:nvPicPr>
        <p:blipFill>
          <a:blip r:embed="rId6"/>
          <a:stretch/>
        </p:blipFill>
        <p:spPr>
          <a:xfrm>
            <a:off x="3643200" y="6286680"/>
            <a:ext cx="25718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3643200" y="135720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97" name="Заголовок 1" descr=""/>
          <p:cNvPicPr/>
          <p:nvPr/>
        </p:nvPicPr>
        <p:blipFill>
          <a:blip r:embed="rId3"/>
          <a:stretch/>
        </p:blipFill>
        <p:spPr>
          <a:xfrm>
            <a:off x="360360" y="281160"/>
            <a:ext cx="6229440" cy="931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342720" y="4357440"/>
            <a:ext cx="5157720" cy="40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Times New Roman"/>
              </a:rPr>
              <a:t>           </a:t>
            </a:r>
            <a:r>
              <a:rPr b="1" lang="uk-UA" sz="1800" spc="-1" strike="noStrike">
                <a:solidFill>
                  <a:srgbClr val="002060"/>
                </a:solidFill>
                <a:latin typeface="Times New Roman"/>
              </a:rPr>
              <a:t>25.02.2016 </a:t>
            </a:r>
            <a:r>
              <a:rPr b="0" lang="uk-UA" sz="1800" spc="-1" strike="noStrike">
                <a:solidFill>
                  <a:srgbClr val="002060"/>
                </a:solidFill>
                <a:latin typeface="Times New Roman"/>
              </a:rPr>
              <a:t>було проведено</a:t>
            </a:r>
            <a:r>
              <a:rPr b="1" lang="uk-UA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2060"/>
                </a:solidFill>
                <a:latin typeface="Times New Roman"/>
              </a:rPr>
              <a:t>постійно діючий семінар „Підготовка учнів до ДПА та ЗНО з математики  (розв’язування задач на побудову перерізів многогранників” (Поліщук С.В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642960" y="1143000"/>
            <a:ext cx="3143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Times New Roman"/>
              </a:rPr>
              <a:t>24.02.2016</a:t>
            </a:r>
            <a:r>
              <a:rPr b="0" lang="uk-UA" sz="1800" spc="-1" strike="noStrike">
                <a:solidFill>
                  <a:srgbClr val="002060"/>
                </a:solidFill>
                <a:latin typeface="Times New Roman"/>
              </a:rPr>
              <a:t> було проведено практичне заняття  „Відпрацювання навичок читання з англійської мови у після букварний період”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2060"/>
                </a:solidFill>
                <a:latin typeface="Times New Roman"/>
              </a:rPr>
              <a:t>(Редькіна А.С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4" descr="D:\настя\Папка педагога организатора\Фотоотчет\Портфолио 2015\2015-2016\SAM_1634.JPG"/>
          <p:cNvPicPr/>
          <p:nvPr/>
        </p:nvPicPr>
        <p:blipFill>
          <a:blip r:embed="rId4"/>
          <a:stretch/>
        </p:blipFill>
        <p:spPr>
          <a:xfrm>
            <a:off x="3286080" y="2928960"/>
            <a:ext cx="2095560" cy="1571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математика - 0001"/>
          <p:cNvPicPr/>
          <p:nvPr/>
        </p:nvPicPr>
        <p:blipFill>
          <a:blip r:embed="rId5"/>
          <a:stretch/>
        </p:blipFill>
        <p:spPr>
          <a:xfrm>
            <a:off x="857160" y="6265800"/>
            <a:ext cx="2786040" cy="2370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математика - 0002"/>
          <p:cNvPicPr/>
          <p:nvPr/>
        </p:nvPicPr>
        <p:blipFill>
          <a:blip r:embed="rId6"/>
          <a:stretch/>
        </p:blipFill>
        <p:spPr>
          <a:xfrm>
            <a:off x="3429000" y="6072120"/>
            <a:ext cx="2900520" cy="194652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9" descr="D:\настя\Папка педагога организатора\Фотоотчет\Портфолио 2015\2015-2016\SAM_1632.JPG"/>
          <p:cNvPicPr/>
          <p:nvPr/>
        </p:nvPicPr>
        <p:blipFill>
          <a:blip r:embed="rId7"/>
          <a:stretch/>
        </p:blipFill>
        <p:spPr>
          <a:xfrm>
            <a:off x="1428840" y="3143160"/>
            <a:ext cx="221436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2"/>
          <a:stretch/>
        </p:blipFill>
        <p:spPr>
          <a:xfrm>
            <a:off x="334800" y="933480"/>
            <a:ext cx="6274080" cy="931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342720" y="1285920"/>
            <a:ext cx="6229080" cy="71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Comic Sans MS"/>
              </a:rPr>
              <a:t>                    </a:t>
            </a:r>
            <a:r>
              <a:rPr b="1" lang="uk-UA" sz="1800" spc="-1" strike="noStrike">
                <a:solidFill>
                  <a:srgbClr val="002060"/>
                </a:solidFill>
                <a:latin typeface="Comic Sans MS"/>
              </a:rPr>
              <a:t>09.02.2016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2060"/>
                </a:solidFill>
                <a:latin typeface="Comic Sans MS"/>
              </a:rPr>
              <a:t>                                   </a:t>
            </a:r>
            <a:r>
              <a:rPr b="0" lang="uk-UA" sz="1800" spc="-1" strike="noStrike">
                <a:solidFill>
                  <a:srgbClr val="002060"/>
                </a:solidFill>
                <a:latin typeface="Comic Sans MS"/>
              </a:rPr>
              <a:t>було проведено</a:t>
            </a:r>
            <a:r>
              <a:rPr b="1" lang="uk-UA" sz="1800" spc="-1" strike="noStrike">
                <a:solidFill>
                  <a:srgbClr val="00206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2060"/>
                </a:solidFill>
                <a:latin typeface="Comic Sans MS"/>
              </a:rPr>
              <a:t>                                </a:t>
            </a:r>
            <a:r>
              <a:rPr b="0" lang="uk-UA" sz="1800" spc="-1" strike="noStrike">
                <a:solidFill>
                  <a:srgbClr val="002060"/>
                </a:solidFill>
                <a:latin typeface="Comic Sans MS"/>
              </a:rPr>
              <a:t>майстер-клас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2060"/>
                </a:solidFill>
                <a:latin typeface="Comic Sans MS"/>
              </a:rPr>
              <a:t>                                         „</a:t>
            </a:r>
            <a:r>
              <a:rPr b="0" lang="uk-UA" sz="1800" spc="-1" strike="noStrike">
                <a:solidFill>
                  <a:srgbClr val="002060"/>
                </a:solidFill>
                <a:latin typeface="Comic Sans MS"/>
              </a:rPr>
              <a:t>Військова тапографі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2060"/>
                </a:solidFill>
                <a:latin typeface="Comic Sans MS"/>
              </a:rPr>
              <a:t>                           </a:t>
            </a:r>
            <a:r>
              <a:rPr b="0" lang="uk-UA" sz="1800" spc="-1" strike="noStrike">
                <a:solidFill>
                  <a:srgbClr val="002060"/>
                </a:solidFill>
                <a:latin typeface="Comic Sans MS"/>
              </a:rPr>
              <a:t>Орієнтуванн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2060"/>
                </a:solidFill>
                <a:latin typeface="Comic Sans MS"/>
              </a:rPr>
              <a:t>на місцевості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70c0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Рисунок 5" descr="D:\настя\Папка педагога организатора\Фотоотчет\Портфолио 2015\2015-2016\SAM_1662.JPG"/>
          <p:cNvPicPr/>
          <p:nvPr/>
        </p:nvPicPr>
        <p:blipFill>
          <a:blip r:embed="rId3"/>
          <a:stretch/>
        </p:blipFill>
        <p:spPr>
          <a:xfrm>
            <a:off x="1071720" y="1857240"/>
            <a:ext cx="2428560" cy="1785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D:\настя\Папка педагога организатора\Фотоотчет\Портфолио 2015\2015-2016\vR_DYj9--PA.jpg"/>
          <p:cNvPicPr/>
          <p:nvPr/>
        </p:nvPicPr>
        <p:blipFill>
          <a:blip r:embed="rId4"/>
          <a:stretch/>
        </p:blipFill>
        <p:spPr>
          <a:xfrm>
            <a:off x="2928960" y="5929200"/>
            <a:ext cx="3543120" cy="26575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6"/>
          <p:cNvSpPr/>
          <p:nvPr/>
        </p:nvSpPr>
        <p:spPr>
          <a:xfrm>
            <a:off x="357120" y="5929200"/>
            <a:ext cx="2571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omic Sans MS"/>
              </a:rPr>
              <a:t>20.04.20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omic Sans MS"/>
              </a:rPr>
              <a:t>відбувся семінар –практикум з природознавства  «Формування розвивального середовища на уроках природознавства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Рисунок 8" descr="D:\настя\Папка педагога организатора\Фотоотчет\Портфолио 2015\2015-2016\ДПЮ\SAM_1670.JPG"/>
          <p:cNvPicPr/>
          <p:nvPr/>
        </p:nvPicPr>
        <p:blipFill>
          <a:blip r:embed="rId5"/>
          <a:stretch/>
        </p:blipFill>
        <p:spPr>
          <a:xfrm>
            <a:off x="357120" y="3571920"/>
            <a:ext cx="2519280" cy="188892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0" descr="D:\настя\Папка педагога организатора\Фотоотчет\Портфолио 2015\2015-2016\ДПЮ\SAM_1668.JPG"/>
          <p:cNvPicPr/>
          <p:nvPr/>
        </p:nvPicPr>
        <p:blipFill>
          <a:blip r:embed="rId6"/>
          <a:stretch/>
        </p:blipFill>
        <p:spPr>
          <a:xfrm>
            <a:off x="2500200" y="4000680"/>
            <a:ext cx="24591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Заголовок 1" descr=""/>
          <p:cNvPicPr/>
          <p:nvPr/>
        </p:nvPicPr>
        <p:blipFill>
          <a:blip r:embed="rId2"/>
          <a:stretch/>
        </p:blipFill>
        <p:spPr>
          <a:xfrm>
            <a:off x="139680" y="304920"/>
            <a:ext cx="6669000" cy="159048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5" descr="D:\настя\Папка педагога организатора\Фотоотчет\Портфолио 2015\2015-2016\SAM_1851.JPG"/>
          <p:cNvPicPr/>
          <p:nvPr/>
        </p:nvPicPr>
        <p:blipFill>
          <a:blip r:embed="rId3"/>
          <a:stretch/>
        </p:blipFill>
        <p:spPr>
          <a:xfrm>
            <a:off x="928800" y="1785960"/>
            <a:ext cx="2795400" cy="20970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7" descr="D:\настя\Папка педагога организатора\Фотоотчет\Портфолио 2015\2015-2016\SAM_1517.JPG"/>
          <p:cNvPicPr/>
          <p:nvPr/>
        </p:nvPicPr>
        <p:blipFill>
          <a:blip r:embed="rId4"/>
          <a:stretch/>
        </p:blipFill>
        <p:spPr>
          <a:xfrm>
            <a:off x="3500280" y="2071800"/>
            <a:ext cx="2643480" cy="214308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8" descr="D:\настя\Папка педагога организатора\Фотоотчет\Портфолио 2015\2015-2016\SAM_1657.JPG"/>
          <p:cNvPicPr/>
          <p:nvPr/>
        </p:nvPicPr>
        <p:blipFill>
          <a:blip r:embed="rId5"/>
          <a:stretch/>
        </p:blipFill>
        <p:spPr>
          <a:xfrm>
            <a:off x="3357720" y="6429240"/>
            <a:ext cx="2795400" cy="20973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9" descr="D:\настя\Папка педагога организатора\Фотоотчет\Портфолио 2015\2015-2016\зустріч з учасникомАТО\SAM_1155.JPG"/>
          <p:cNvPicPr/>
          <p:nvPr/>
        </p:nvPicPr>
        <p:blipFill>
          <a:blip r:embed="rId6"/>
          <a:stretch/>
        </p:blipFill>
        <p:spPr>
          <a:xfrm>
            <a:off x="857160" y="3786120"/>
            <a:ext cx="2648160" cy="19908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0" descr="D:\фото школьные\8 травня\SAM_0725.JPG"/>
          <p:cNvPicPr/>
          <p:nvPr/>
        </p:nvPicPr>
        <p:blipFill>
          <a:blip r:embed="rId7"/>
          <a:stretch/>
        </p:blipFill>
        <p:spPr>
          <a:xfrm>
            <a:off x="3286080" y="4286160"/>
            <a:ext cx="2724120" cy="227664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1"/>
          <p:cNvSpPr/>
          <p:nvPr/>
        </p:nvSpPr>
        <p:spPr>
          <a:xfrm>
            <a:off x="714240" y="5786280"/>
            <a:ext cx="2571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2060"/>
                </a:solidFill>
                <a:latin typeface="Comic Sans MS"/>
              </a:rPr>
              <a:t>Протягом року неодноразово учні зустрічаються з ветеранами Другої Світової Війни та учасниками бойових дій в зоні АТО, які проводять з учнями школи круглі столи, уроки-диспути, лекції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2"/>
          <a:stretch/>
        </p:blipFill>
        <p:spPr>
          <a:xfrm>
            <a:off x="139680" y="304920"/>
            <a:ext cx="6669000" cy="159048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"/>
          <p:cNvSpPr/>
          <p:nvPr/>
        </p:nvSpPr>
        <p:spPr>
          <a:xfrm>
            <a:off x="3786120" y="1928880"/>
            <a:ext cx="228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2060"/>
                </a:solidFill>
                <a:latin typeface="Comic Sans MS"/>
              </a:rPr>
              <a:t>До «Дня Козацтва – Дня Захисника Вітчизни»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2060"/>
                </a:solidFill>
                <a:latin typeface="Comic Sans MS"/>
              </a:rPr>
              <a:t>учні школи розповідали вірші, співали пісні про нашу Неньку Україну, розповідали про національні символи Україн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Рисунок 4" descr="D:\настя\Папка педагога организатора\Фотоотчет\Портфолио 2015\2015-2016\1.jpg"/>
          <p:cNvPicPr/>
          <p:nvPr/>
        </p:nvPicPr>
        <p:blipFill>
          <a:blip r:embed="rId3"/>
          <a:stretch/>
        </p:blipFill>
        <p:spPr>
          <a:xfrm>
            <a:off x="642960" y="1928880"/>
            <a:ext cx="2857320" cy="228600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5" descr="D:\настя\Папка педагога организатора\Фотоотчет\Портфолио 2015\2015-2016\2.jpg"/>
          <p:cNvPicPr/>
          <p:nvPr/>
        </p:nvPicPr>
        <p:blipFill>
          <a:blip r:embed="rId4"/>
          <a:stretch/>
        </p:blipFill>
        <p:spPr>
          <a:xfrm>
            <a:off x="4714920" y="5143680"/>
            <a:ext cx="1762200" cy="235260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6" descr="/Files/images/SAM_0123.JPG"/>
          <p:cNvPicPr/>
          <p:nvPr/>
        </p:nvPicPr>
        <p:blipFill>
          <a:blip r:embed="rId5"/>
          <a:stretch/>
        </p:blipFill>
        <p:spPr>
          <a:xfrm>
            <a:off x="857160" y="3786120"/>
            <a:ext cx="2333880" cy="180036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7" descr="/Files/images/SAM_0124.JPG"/>
          <p:cNvPicPr/>
          <p:nvPr/>
        </p:nvPicPr>
        <p:blipFill>
          <a:blip r:embed="rId6"/>
          <a:stretch/>
        </p:blipFill>
        <p:spPr>
          <a:xfrm>
            <a:off x="1785960" y="5214960"/>
            <a:ext cx="2714760" cy="17524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11"/>
          <p:cNvSpPr/>
          <p:nvPr/>
        </p:nvSpPr>
        <p:spPr>
          <a:xfrm>
            <a:off x="857160" y="6786720"/>
            <a:ext cx="3357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2060"/>
                </a:solidFill>
                <a:latin typeface="Comic Sans MS"/>
              </a:rPr>
              <a:t>До Дня Соборності України систематично працюють виставки стіннівок та малюнкі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Заголовок 1" descr=""/>
          <p:cNvPicPr/>
          <p:nvPr/>
        </p:nvPicPr>
        <p:blipFill>
          <a:blip r:embed="rId2"/>
          <a:stretch/>
        </p:blipFill>
        <p:spPr>
          <a:xfrm>
            <a:off x="139680" y="304920"/>
            <a:ext cx="6669000" cy="15904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"/>
          <p:cNvSpPr/>
          <p:nvPr/>
        </p:nvSpPr>
        <p:spPr>
          <a:xfrm>
            <a:off x="428760" y="1935000"/>
            <a:ext cx="3429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Плідну роботу з національно-патріотичного виховання проводить Рада шкільного музею К.Ф.Ольшанськог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Рисунок 4" descr="D:\настя\Папка педагога организатора\Фотоотчет\Портфолио 2015\2015-2016\зустріч з учасникомАТО\SAM_1168.JPG"/>
          <p:cNvPicPr/>
          <p:nvPr/>
        </p:nvPicPr>
        <p:blipFill>
          <a:blip r:embed="rId3"/>
          <a:stretch/>
        </p:blipFill>
        <p:spPr>
          <a:xfrm>
            <a:off x="3786120" y="1785960"/>
            <a:ext cx="2638440" cy="19778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0"/>
          <p:cNvSpPr/>
          <p:nvPr/>
        </p:nvSpPr>
        <p:spPr>
          <a:xfrm>
            <a:off x="929520" y="621504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Рисунок 5" descr="-0O7aaxmpbs"/>
          <p:cNvPicPr/>
          <p:nvPr/>
        </p:nvPicPr>
        <p:blipFill>
          <a:blip r:embed="rId4"/>
          <a:stretch/>
        </p:blipFill>
        <p:spPr>
          <a:xfrm>
            <a:off x="357120" y="3357720"/>
            <a:ext cx="4000680" cy="40258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2786040" y="6296400"/>
            <a:ext cx="36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Учні проводять просвітницьку роботу щодо національно-патріотичного виховання  через виступи агітбригад  «Ми за Мир» та участі в всеукраїнських флешмобах «Ми= Україна», «Дівчата –краса України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Рисунок 5" descr="D:\настя\Папка педагога организатора\Фотоотчет\Портфолио 2015\2015-2016\зустріч з учасникомАТО\SAM_1167.JPG"/>
          <p:cNvPicPr/>
          <p:nvPr/>
        </p:nvPicPr>
        <p:blipFill>
          <a:blip r:embed="rId5"/>
          <a:stretch/>
        </p:blipFill>
        <p:spPr>
          <a:xfrm>
            <a:off x="285840" y="6715080"/>
            <a:ext cx="2638440" cy="197964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15" descr="C:\Documents and Settings\Владелец\Рабочий стол\фото школьные\SAM_0371.JPG"/>
          <p:cNvPicPr/>
          <p:nvPr/>
        </p:nvPicPr>
        <p:blipFill>
          <a:blip r:embed="rId6"/>
          <a:stretch/>
        </p:blipFill>
        <p:spPr>
          <a:xfrm>
            <a:off x="3500280" y="4071960"/>
            <a:ext cx="264348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ver</cp:lastModifiedBy>
  <dcterms:modified xsi:type="dcterms:W3CDTF">2016-04-22T08:21:07Z</dcterms:modified>
  <cp:revision>25</cp:revision>
  <dc:subject/>
  <dc:title>Слайд 1</dc:title>
</cp:coreProperties>
</file>