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B94-5CA6-4C70-9C0B-5315D8DF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216-4585-4BF0-90FC-3F9A3E6C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7E0-42F6-4F01-8A43-E62AE5DB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BEA-6630-443D-B643-67F5D3F6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8AA-384E-4C41-9B7B-05DC7E71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D18-EBF2-4712-9B05-B1FD1DB5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26A-5D9D-477B-A849-2A190E48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1B6-F26F-4EF5-A48E-C0DBACEB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DBC-A2CB-4A57-A048-06700DF7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8AD-6B26-4012-B1A0-8A4F9C1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C27-D5DD-4C64-AEF1-3C1632A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BC6-2C39-4E3B-B85C-E368F246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F1DF-7A64-4C0C-8A86-6168C9F3C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472392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Козакевич Євген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чень 11 клас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КЗ “ХЗОШ № 13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ім. К.Ф. Ольшанського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типендіат Харківської міської рад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«Кращий учень закладу осві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user\Downloads\ХЗОШ № 135 Козакевич.jpg"/>
          <p:cNvPicPr/>
          <p:nvPr/>
        </p:nvPicPr>
        <p:blipFill>
          <a:blip r:embed="rId1"/>
          <a:stretch/>
        </p:blipFill>
        <p:spPr>
          <a:xfrm>
            <a:off x="457200" y="1066680"/>
            <a:ext cx="2540160" cy="36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user\Downloads\IMG_20210112_154446.jpg"/>
          <p:cNvPicPr/>
          <p:nvPr/>
        </p:nvPicPr>
        <p:blipFill>
          <a:blip r:embed="rId2"/>
          <a:stretch/>
        </p:blipFill>
        <p:spPr>
          <a:xfrm>
            <a:off x="5105520" y="3809880"/>
            <a:ext cx="2095560" cy="266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user\Downloads\IMG-2c421a6ad8018862003b158aae3ea9fa-V.jpg"/>
          <p:cNvPicPr/>
          <p:nvPr/>
        </p:nvPicPr>
        <p:blipFill>
          <a:blip r:embed="rId3"/>
          <a:stretch/>
        </p:blipFill>
        <p:spPr>
          <a:xfrm>
            <a:off x="4343400" y="1143000"/>
            <a:ext cx="379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1-14T09:28:27Z</dcterms:modified>
  <cp:revision>5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