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8F5-64BA-4F4C-8E2F-1442B610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9E3B-FE80-487B-B8B4-51BE5BA6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3908-FA48-4411-BA42-28DD249F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12FC-F355-4443-B7FA-B2DF1F6D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5C24-B92C-4F4E-A048-3B709FAA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5881-9A4A-423A-8769-B7517DA9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D2C8-E85A-4A21-99A8-2F04E774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6150-7D7B-431C-908D-F5FBA340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A5EC-836E-4C82-BF1B-96204A9A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D864-AD09-408D-9D5D-3C605523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ABAF-B89A-4754-A6B0-DAF3BF6D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76A4-E778-4ABE-9FAB-2057FD49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E83A-A170-4DD5-8AAC-05E07AB0E1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4723920"/>
            <a:ext cx="30477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Козакевич Євгені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учень 11 клас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333399"/>
                </a:solidFill>
                <a:latin typeface="Arial"/>
              </a:rPr>
              <a:t>КЗ “ХЗОШ № 13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333399"/>
                </a:solidFill>
                <a:latin typeface="Arial"/>
              </a:rPr>
              <a:t>ім. К.Ф. Ольшанського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Стипендіат Харківської міської ради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                   «Кращий учень закладу осві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Users\user\Downloads\ХЗОШ № 135 Козакевич.jpg"/>
          <p:cNvPicPr/>
          <p:nvPr/>
        </p:nvPicPr>
        <p:blipFill>
          <a:blip r:embed="rId1"/>
          <a:stretch/>
        </p:blipFill>
        <p:spPr>
          <a:xfrm>
            <a:off x="457200" y="1066680"/>
            <a:ext cx="2540160" cy="36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C:\Users\user\Downloads\IMG_20210112_154446.jpg"/>
          <p:cNvPicPr/>
          <p:nvPr/>
        </p:nvPicPr>
        <p:blipFill>
          <a:blip r:embed="rId2"/>
          <a:stretch/>
        </p:blipFill>
        <p:spPr>
          <a:xfrm>
            <a:off x="5105520" y="3809880"/>
            <a:ext cx="2095560" cy="2667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C:\Users\user\Downloads\IMG-2c421a6ad8018862003b158aae3ea9fa-V.jpg"/>
          <p:cNvPicPr/>
          <p:nvPr/>
        </p:nvPicPr>
        <p:blipFill>
          <a:blip r:embed="rId3"/>
          <a:stretch/>
        </p:blipFill>
        <p:spPr>
          <a:xfrm>
            <a:off x="4343400" y="1143000"/>
            <a:ext cx="3798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01-14T09:28:27Z</dcterms:modified>
  <cp:revision>5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